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097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4020840" y="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5120" cy="5097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402084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2F77A-6631-4A70-BD7B-6ACDB52CF5FD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256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0" y="3858480"/>
            <a:ext cx="914256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5040" y="54900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0" y="385848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5040" y="385848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294372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91320" y="549000"/>
            <a:ext cx="294372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82640" y="549000"/>
            <a:ext cx="294372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0" y="3858480"/>
            <a:ext cx="294372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91320" y="3858480"/>
            <a:ext cx="294372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82640" y="3858480"/>
            <a:ext cx="294372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549000"/>
            <a:ext cx="9142560" cy="63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25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44614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040" y="549000"/>
            <a:ext cx="44614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-360" y="39240"/>
            <a:ext cx="7162920" cy="19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040" y="549000"/>
            <a:ext cx="44614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0" y="385848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0" y="549000"/>
            <a:ext cx="9142560" cy="63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44614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040" y="54900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040" y="385848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040" y="54900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3858480"/>
            <a:ext cx="914256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256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0" y="3858480"/>
            <a:ext cx="914256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040" y="54900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0" y="385848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040" y="385848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294372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1320" y="549000"/>
            <a:ext cx="294372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2640" y="549000"/>
            <a:ext cx="294372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0" y="3858480"/>
            <a:ext cx="294372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1320" y="3858480"/>
            <a:ext cx="294372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2640" y="3858480"/>
            <a:ext cx="294372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25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44614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040" y="549000"/>
            <a:ext cx="44614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-360" y="39240"/>
            <a:ext cx="7162920" cy="19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040" y="549000"/>
            <a:ext cx="44614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85848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44614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040" y="54900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5040" y="385848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040" y="54900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3858480"/>
            <a:ext cx="914256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9640"/>
          </a:xfrm>
          <a:prstGeom prst="rect">
            <a:avLst/>
          </a:prstGeom>
          <a:solidFill>
            <a:srgbClr val="32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549000"/>
            <a:ext cx="91425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1" marL="539640" indent="-17928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2" marL="900000" indent="-1792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3" marL="1171440" indent="-9036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4" marL="187812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5" marL="187812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6" marL="187812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402400" y="653904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C66AB7-53E8-40C0-B00D-CBCCEEBB3F69}" type="slidenum">
              <a:rPr b="1" lang="en-GB" sz="1400" spc="-1" strike="noStrike">
                <a:solidFill>
                  <a:srgbClr val="32425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1120" y="6561000"/>
            <a:ext cx="74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2425d"/>
                </a:solidFill>
                <a:latin typeface="Arial"/>
              </a:rPr>
              <a:t>GridWay Team</a:t>
            </a:r>
            <a:r>
              <a:rPr b="0" lang="en-GB" sz="1400" spc="-1" strike="noStrike">
                <a:solidFill>
                  <a:srgbClr val="395c75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32425d"/>
                </a:solidFill>
                <a:latin typeface="Arial"/>
              </a:rPr>
              <a:t>Grid Scheduling Infrastructures with the GridWay Meta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688240" y="71280"/>
            <a:ext cx="113040" cy="123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883720" y="15840"/>
            <a:ext cx="206280" cy="231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916840" y="317520"/>
            <a:ext cx="147960" cy="160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658360" y="298440"/>
            <a:ext cx="176040" cy="193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713800" y="106200"/>
            <a:ext cx="307800" cy="320760"/>
          </a:xfrm>
          <a:prstGeom prst="ellipse">
            <a:avLst/>
          </a:prstGeom>
          <a:noFill/>
          <a:ln w="2232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145360" y="653904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2668AD-F82F-4ABD-855E-CAD789BCE55F}" type="slidenum">
              <a:rPr b="1" lang="en-GB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-17928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1" marL="539640" indent="-17928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2" marL="900000" indent="-1792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3" marL="1171440" indent="-9036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4" marL="187812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5" marL="187812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6" marL="187812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50960" y="2881440"/>
            <a:ext cx="7634160" cy="1151640"/>
          </a:xfrm>
          <a:prstGeom prst="roundRect">
            <a:avLst>
              <a:gd name="adj" fmla="val 12495"/>
            </a:avLst>
          </a:prstGeom>
          <a:solidFill>
            <a:srgbClr val="3242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rid Scheduling Infrastructures with the GridWay Metaschedu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13280" y="1351080"/>
            <a:ext cx="341280" cy="333360"/>
          </a:xfrm>
          <a:prstGeom prst="ellipse">
            <a:avLst/>
          </a:prstGeom>
          <a:solidFill>
            <a:srgbClr val="32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02240" y="1197000"/>
            <a:ext cx="617400" cy="628560"/>
          </a:xfrm>
          <a:prstGeom prst="ellipse">
            <a:avLst/>
          </a:prstGeom>
          <a:solidFill>
            <a:srgbClr val="32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02320" y="2017800"/>
            <a:ext cx="439560" cy="438120"/>
          </a:xfrm>
          <a:prstGeom prst="ellipse">
            <a:avLst/>
          </a:prstGeom>
          <a:solidFill>
            <a:srgbClr val="32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24360" y="1968480"/>
            <a:ext cx="528480" cy="525600"/>
          </a:xfrm>
          <a:prstGeom prst="ellipse">
            <a:avLst/>
          </a:prstGeom>
          <a:solidFill>
            <a:srgbClr val="32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89240" y="1442880"/>
            <a:ext cx="927360" cy="876600"/>
          </a:xfrm>
          <a:prstGeom prst="ellipse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89360" y="5413320"/>
            <a:ext cx="603360" cy="603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908520" y="5367240"/>
            <a:ext cx="574560" cy="604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126240" y="4214880"/>
            <a:ext cx="28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Rubén S. Mont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http://asds.dacya.ucm.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64440" y="6080040"/>
            <a:ext cx="358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istributed Systems Architecture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Universidad Complutense de Madr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24120" y="189000"/>
            <a:ext cx="1907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Univers"/>
              </a:rPr>
              <a:t>GridWorld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Univers"/>
              </a:rPr>
              <a:t>Washington, U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Univers"/>
              </a:rPr>
              <a:t>September 11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36520" y="790560"/>
            <a:ext cx="8728200" cy="3576600"/>
          </a:xfrm>
          <a:prstGeom prst="roundRect">
            <a:avLst>
              <a:gd name="adj" fmla="val 44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4920" y="45720"/>
            <a:ext cx="8137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1280" indent="0"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. Scheduling Infrastructures with GridWay 5.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33200" y="561960"/>
            <a:ext cx="364824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95c75"/>
              </a:gs>
              <a:gs pos="50000">
                <a:srgbClr val="fefefe"/>
              </a:gs>
              <a:gs pos="100000">
                <a:srgbClr val="395c7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Partner Grid De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95280" y="1042920"/>
            <a:ext cx="842472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0280" indent="-2602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Infra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682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n-interoperable independent platforms, managed by different D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682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eographically distribu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682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Administration 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0280" indent="-2602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682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arge-scale, secure and reliable sharing of resources among partner organizations and supply-chain participa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0280" indent="-2602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Bene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682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ccess to higher computing power to satisfy peak deman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682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collaborative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2600" y="4721400"/>
            <a:ext cx="8728200" cy="1444320"/>
          </a:xfrm>
          <a:prstGeom prst="roundRect">
            <a:avLst>
              <a:gd name="adj" fmla="val 44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79280" y="4492800"/>
            <a:ext cx="396108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95c75"/>
              </a:gs>
              <a:gs pos="50000">
                <a:srgbClr val="fefefe"/>
              </a:gs>
              <a:gs pos="100000">
                <a:srgbClr val="395c7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Scheduling in Partne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6400" y="5103720"/>
            <a:ext cx="5722200" cy="10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0280" indent="-2602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Organization-Level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682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over client request and resource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682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multiple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tra-organiza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88920" y="836640"/>
            <a:ext cx="8967600" cy="5232240"/>
          </a:xfrm>
          <a:prstGeom prst="roundRect">
            <a:avLst>
              <a:gd name="adj" fmla="val 33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4920" y="45720"/>
            <a:ext cx="8137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1280" indent="0"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. Scheduling Infrastructures with GridWay 5.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065480" y="616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520" y="620640"/>
            <a:ext cx="350064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95c75"/>
              </a:gs>
              <a:gs pos="50000">
                <a:srgbClr val="fefefe"/>
              </a:gs>
              <a:gs pos="100000">
                <a:srgbClr val="395c7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Partner Grid De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173160" y="5135040"/>
            <a:ext cx="8856720" cy="64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984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10800000">
            <a:off x="173160" y="4101840"/>
            <a:ext cx="8856720" cy="1033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173160" y="2719080"/>
            <a:ext cx="8856720" cy="1380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173160" y="1150200"/>
            <a:ext cx="8856720" cy="1576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1" name=""/>
          <p:cNvCxnSpPr/>
          <p:nvPr/>
        </p:nvCxnSpPr>
        <p:spPr>
          <a:xfrm>
            <a:off x="1909800" y="4341960"/>
            <a:ext cx="1395720" cy="583200"/>
          </a:xfrm>
          <a:prstGeom prst="bentConnector3">
            <a:avLst>
              <a:gd name="adj1" fmla="val 50000"/>
            </a:avLst>
          </a:prstGeom>
          <a:ln w="7632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332" name=""/>
          <p:cNvCxnSpPr/>
          <p:nvPr/>
        </p:nvCxnSpPr>
        <p:spPr>
          <a:xfrm>
            <a:off x="1969560" y="4333680"/>
            <a:ext cx="3217320" cy="611640"/>
          </a:xfrm>
          <a:prstGeom prst="bentConnector3">
            <a:avLst>
              <a:gd name="adj1" fmla="val 50000"/>
            </a:avLst>
          </a:prstGeom>
          <a:ln w="76320">
            <a:solidFill>
              <a:srgbClr val="eaeaea"/>
            </a:solidFill>
            <a:miter/>
            <a:tailEnd len="med" type="triangle" w="med"/>
          </a:ln>
        </p:spPr>
      </p:cxnSp>
      <p:sp>
        <p:nvSpPr>
          <p:cNvPr id="333" name=""/>
          <p:cNvSpPr/>
          <p:nvPr/>
        </p:nvSpPr>
        <p:spPr>
          <a:xfrm flipV="1">
            <a:off x="501480" y="3836880"/>
            <a:ext cx="1800" cy="5112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4" name=""/>
          <p:cNvCxnSpPr/>
          <p:nvPr/>
        </p:nvCxnSpPr>
        <p:spPr>
          <a:xfrm>
            <a:off x="2333160" y="4446720"/>
            <a:ext cx="2520" cy="459360"/>
          </a:xfrm>
          <a:prstGeom prst="bentConnector3">
            <a:avLst>
              <a:gd name="adj1" fmla="val 50000"/>
            </a:avLst>
          </a:prstGeom>
          <a:ln w="7632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335" name=""/>
          <p:cNvCxnSpPr/>
          <p:nvPr/>
        </p:nvCxnSpPr>
        <p:spPr>
          <a:xfrm>
            <a:off x="2394000" y="4463640"/>
            <a:ext cx="1335600" cy="478440"/>
          </a:xfrm>
          <a:prstGeom prst="bentConnector3">
            <a:avLst>
              <a:gd name="adj1" fmla="val 49986"/>
            </a:avLst>
          </a:prstGeom>
          <a:ln w="7632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336" name=""/>
          <p:cNvCxnSpPr/>
          <p:nvPr/>
        </p:nvCxnSpPr>
        <p:spPr>
          <a:xfrm>
            <a:off x="2314080" y="4464000"/>
            <a:ext cx="3296520" cy="489600"/>
          </a:xfrm>
          <a:prstGeom prst="bentConnector3">
            <a:avLst>
              <a:gd name="adj1" fmla="val 50000"/>
            </a:avLst>
          </a:prstGeom>
          <a:ln w="7632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 flipV="1">
            <a:off x="1870200" y="3824280"/>
            <a:ext cx="1440" cy="4032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29080" y="5756400"/>
            <a:ext cx="456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GLOBUS PARTNER GRID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47800" y="5357880"/>
            <a:ext cx="1212840" cy="169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ESOURC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747800" y="5153040"/>
            <a:ext cx="1212840" cy="1699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SGE Clus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06800" y="4948200"/>
            <a:ext cx="363240" cy="1699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F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597040" y="4948200"/>
            <a:ext cx="363600" cy="1699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M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755720" y="4948200"/>
            <a:ext cx="424080" cy="1699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GRA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09800" y="4309920"/>
            <a:ext cx="1440" cy="58752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143160" y="5365800"/>
            <a:ext cx="1212840" cy="168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ESOURC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43160" y="5160960"/>
            <a:ext cx="1212840" cy="1681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PBS Clus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602160" y="4956120"/>
            <a:ext cx="363240" cy="1684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F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992400" y="4956120"/>
            <a:ext cx="363600" cy="1684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M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151080" y="4956120"/>
            <a:ext cx="424080" cy="1684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GRA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32440" y="5365800"/>
            <a:ext cx="1212840" cy="168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ESOURCE 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032440" y="5160960"/>
            <a:ext cx="1212840" cy="1681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LSF Clus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491080" y="4956120"/>
            <a:ext cx="363600" cy="1684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F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881680" y="4956120"/>
            <a:ext cx="363600" cy="1684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M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38560" y="4956120"/>
            <a:ext cx="425520" cy="1684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GRA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4200" y="3486240"/>
            <a:ext cx="606600" cy="3394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51040" y="3486240"/>
            <a:ext cx="606240" cy="3394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ransf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487520" y="3486240"/>
            <a:ext cx="728640" cy="3394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246400" y="3486240"/>
            <a:ext cx="698400" cy="33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22120" y="3232080"/>
            <a:ext cx="2722680" cy="2271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GridWay daem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499000" y="3483000"/>
            <a:ext cx="606600" cy="3398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35840" y="3483000"/>
            <a:ext cx="606240" cy="3398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ransf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772320" y="3483000"/>
            <a:ext cx="728640" cy="33984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31200" y="3483000"/>
            <a:ext cx="698400" cy="33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506920" y="3228840"/>
            <a:ext cx="2722680" cy="2271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GridWay daem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506920" y="2071800"/>
            <a:ext cx="601920" cy="2268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CLI &amp; AP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502240" y="1817640"/>
            <a:ext cx="606600" cy="2253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221520" y="1817640"/>
            <a:ext cx="606240" cy="2253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USER 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226200" y="2071800"/>
            <a:ext cx="601560" cy="2268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CLI &amp; AP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5786280" y="2297160"/>
            <a:ext cx="1800" cy="868320"/>
          </a:xfrm>
          <a:prstGeom prst="line">
            <a:avLst/>
          </a:prstGeom>
          <a:ln w="7632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6507000" y="2297160"/>
            <a:ext cx="1800" cy="868320"/>
          </a:xfrm>
          <a:prstGeom prst="line">
            <a:avLst/>
          </a:prstGeom>
          <a:ln w="7632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5830920" y="3830760"/>
            <a:ext cx="1440" cy="5112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6480000" y="3817440"/>
            <a:ext cx="1800" cy="623880"/>
          </a:xfrm>
          <a:prstGeom prst="line">
            <a:avLst/>
          </a:prstGeom>
          <a:ln w="7632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7199280" y="3817800"/>
            <a:ext cx="1800" cy="4032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832040" y="4222800"/>
            <a:ext cx="5405400" cy="144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116000" y="4467240"/>
            <a:ext cx="5405400" cy="144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68360" y="4334040"/>
            <a:ext cx="5405400" cy="1440"/>
          </a:xfrm>
          <a:prstGeom prst="line">
            <a:avLst/>
          </a:prstGeom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1150920" y="3823920"/>
            <a:ext cx="1440" cy="623880"/>
          </a:xfrm>
          <a:prstGeom prst="line">
            <a:avLst/>
          </a:prstGeom>
          <a:ln w="7632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/>
          <p:nvPr/>
        </p:nvCxnSpPr>
        <p:spPr>
          <a:xfrm flipV="1" rot="10800000">
            <a:off x="2698200" y="4220640"/>
            <a:ext cx="970560" cy="685080"/>
          </a:xfrm>
          <a:prstGeom prst="bentConnector3">
            <a:avLst>
              <a:gd name="adj1" fmla="val 49981"/>
            </a:avLst>
          </a:prstGeom>
          <a:ln w="7632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379" name=""/>
          <p:cNvCxnSpPr/>
          <p:nvPr/>
        </p:nvCxnSpPr>
        <p:spPr>
          <a:xfrm>
            <a:off x="3002040" y="4221000"/>
            <a:ext cx="1092960" cy="704160"/>
          </a:xfrm>
          <a:prstGeom prst="bentConnector3">
            <a:avLst>
              <a:gd name="adj1" fmla="val 49983"/>
            </a:avLst>
          </a:prstGeom>
          <a:ln w="7632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380" name=""/>
          <p:cNvCxnSpPr/>
          <p:nvPr/>
        </p:nvCxnSpPr>
        <p:spPr>
          <a:xfrm>
            <a:off x="2819520" y="4220640"/>
            <a:ext cx="3156480" cy="724680"/>
          </a:xfrm>
          <a:prstGeom prst="bentConnector3">
            <a:avLst>
              <a:gd name="adj1" fmla="val 49994"/>
            </a:avLst>
          </a:prstGeom>
          <a:ln w="7632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381" name=""/>
          <p:cNvSpPr/>
          <p:nvPr/>
        </p:nvSpPr>
        <p:spPr>
          <a:xfrm>
            <a:off x="5492160" y="150660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 Narrow"/>
              </a:rPr>
              <a:t>CLIENT HO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495760" y="1506600"/>
            <a:ext cx="2737080" cy="2332080"/>
          </a:xfrm>
          <a:prstGeom prst="roundRect">
            <a:avLst>
              <a:gd name="adj" fmla="val 3176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31040" y="114768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T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83760" y="3294000"/>
            <a:ext cx="22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SCHEDULING INSTANC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COMPITE WITH EACH 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16200000">
            <a:off x="8192520" y="1719000"/>
            <a:ext cx="13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295760" y="474660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rid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56400" y="532296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64480" y="2774880"/>
            <a:ext cx="601560" cy="2271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CLI &amp; AP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59440" y="2455920"/>
            <a:ext cx="606600" cy="2253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USER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605720" y="2774880"/>
            <a:ext cx="601560" cy="2271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CLI &amp; AP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601040" y="2455920"/>
            <a:ext cx="606240" cy="2253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USER 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69960" y="2773440"/>
            <a:ext cx="601920" cy="2268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CLI &amp; AP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565280" y="2454120"/>
            <a:ext cx="606600" cy="2257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USER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311560" y="2773440"/>
            <a:ext cx="601560" cy="2268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CLI &amp; AP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06520" y="2454120"/>
            <a:ext cx="606600" cy="2257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USER 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25360" y="2071800"/>
            <a:ext cx="601560" cy="2268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CLI &amp; AP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20680" y="1817640"/>
            <a:ext cx="606240" cy="2253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939960" y="1817640"/>
            <a:ext cx="606240" cy="2253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USER 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44640" y="2071800"/>
            <a:ext cx="601560" cy="2268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CLI &amp; AP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504720" y="2297160"/>
            <a:ext cx="1800" cy="868320"/>
          </a:xfrm>
          <a:prstGeom prst="line">
            <a:avLst/>
          </a:prstGeom>
          <a:ln w="7632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225440" y="2297160"/>
            <a:ext cx="1800" cy="868320"/>
          </a:xfrm>
          <a:prstGeom prst="line">
            <a:avLst/>
          </a:prstGeom>
          <a:ln w="7632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10600" y="150660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 Narrow"/>
              </a:rPr>
              <a:t>CLIENT HO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14200" y="1506600"/>
            <a:ext cx="2737080" cy="2332080"/>
          </a:xfrm>
          <a:prstGeom prst="roundRect">
            <a:avLst>
              <a:gd name="adj" fmla="val 3176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149480" y="114768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T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08080" y="2730600"/>
            <a:ext cx="8820000" cy="1440"/>
          </a:xfrm>
          <a:prstGeom prst="line">
            <a:avLst/>
          </a:prstGeom>
          <a:ln w="22320">
            <a:solidFill>
              <a:srgbClr val="96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08080" y="4102200"/>
            <a:ext cx="8820000" cy="1440"/>
          </a:xfrm>
          <a:prstGeom prst="line">
            <a:avLst/>
          </a:prstGeom>
          <a:ln w="22320">
            <a:solidFill>
              <a:srgbClr val="96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08080" y="5143680"/>
            <a:ext cx="8820000" cy="1440"/>
          </a:xfrm>
          <a:prstGeom prst="line">
            <a:avLst/>
          </a:prstGeom>
          <a:ln w="22320">
            <a:solidFill>
              <a:srgbClr val="96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rot="16200000">
            <a:off x="8032680" y="3161160"/>
            <a:ext cx="146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Site-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Meta-Schedu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236520" y="1077840"/>
            <a:ext cx="8728200" cy="3430800"/>
          </a:xfrm>
          <a:prstGeom prst="roundRect">
            <a:avLst>
              <a:gd name="adj" fmla="val 44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4920" y="45720"/>
            <a:ext cx="8137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1280" indent="0"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. Scheduling Infrastructures with GridWay 5.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33200" y="849240"/>
            <a:ext cx="364824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95c75"/>
              </a:gs>
              <a:gs pos="50000">
                <a:srgbClr val="fefefe"/>
              </a:gs>
              <a:gs pos="100000">
                <a:srgbClr val="395c7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Utility Grid De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5280" y="1330200"/>
            <a:ext cx="8424720" cy="29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0280" indent="-2602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Infra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682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rvice provider infrastructure (enterprise, partner or utility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0280" indent="-2602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682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upply resources on-demand, making resource provision more agile and adap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0280" indent="-2602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Bene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682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lexibility to adjust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682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ccess to unlimited computational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682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 IT costs from fixed to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82600" y="5253120"/>
            <a:ext cx="8728200" cy="853920"/>
          </a:xfrm>
          <a:prstGeom prst="roundRect">
            <a:avLst>
              <a:gd name="adj" fmla="val 44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79280" y="5010120"/>
            <a:ext cx="396108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95c75"/>
              </a:gs>
              <a:gs pos="50000">
                <a:srgbClr val="fefefe"/>
              </a:gs>
              <a:gs pos="100000">
                <a:srgbClr val="395c7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Scheduling in Utility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89360" y="5621400"/>
            <a:ext cx="86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0280" indent="-2602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ndle the Utility just as other resource integrated in the original infrastructu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4920" y="45720"/>
            <a:ext cx="8137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1280" indent="0"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. Scheduling Infrastructures with GridWay 5.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836640"/>
            <a:ext cx="8642160" cy="5688000"/>
          </a:xfrm>
          <a:prstGeom prst="roundRect">
            <a:avLst>
              <a:gd name="adj" fmla="val 25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08000" y="620640"/>
            <a:ext cx="446400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95c75"/>
              </a:gs>
              <a:gs pos="50000">
                <a:srgbClr val="fefefe"/>
              </a:gs>
              <a:gs pos="100000">
                <a:srgbClr val="395c7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2425d"/>
                </a:solidFill>
                <a:latin typeface="Arial"/>
              </a:rPr>
              <a:t>Globus &amp; GridWay Utility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03640" y="5097600"/>
            <a:ext cx="2016000" cy="419040"/>
          </a:xfrm>
          <a:prstGeom prst="roundRect">
            <a:avLst>
              <a:gd name="adj" fmla="val 16667"/>
            </a:avLst>
          </a:prstGeom>
          <a:solidFill>
            <a:srgbClr val="004f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LOBUS GR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203640" y="3435480"/>
            <a:ext cx="2016000" cy="420480"/>
          </a:xfrm>
          <a:prstGeom prst="roundRect">
            <a:avLst>
              <a:gd name="adj" fmla="val 16667"/>
            </a:avLst>
          </a:prstGeom>
          <a:solidFill>
            <a:srgbClr val="3242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idWay 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965400" y="2925720"/>
            <a:ext cx="605160" cy="419040"/>
          </a:xfrm>
          <a:prstGeom prst="roundRect">
            <a:avLst>
              <a:gd name="adj" fmla="val 16667"/>
            </a:avLst>
          </a:prstGeom>
          <a:solidFill>
            <a:srgbClr val="cccc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614840" y="2925720"/>
            <a:ext cx="604800" cy="419040"/>
          </a:xfrm>
          <a:prstGeom prst="roundRect">
            <a:avLst>
              <a:gd name="adj" fmla="val 16667"/>
            </a:avLst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14800" y="2925720"/>
            <a:ext cx="706320" cy="4190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rot="5400000">
            <a:off x="3279240" y="2420640"/>
            <a:ext cx="503280" cy="360360"/>
          </a:xfrm>
          <a:custGeom>
            <a:avLst/>
            <a:gdLst>
              <a:gd name="textAreaLeft" fmla="*/ 0 w 503280"/>
              <a:gd name="textAreaRight" fmla="*/ 503640 w 5032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203640" y="3887640"/>
            <a:ext cx="2016000" cy="420840"/>
          </a:xfrm>
          <a:prstGeom prst="roundRect">
            <a:avLst>
              <a:gd name="adj" fmla="val 16667"/>
            </a:avLst>
          </a:prstGeom>
          <a:solidFill>
            <a:srgbClr val="32425d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Middleware Dri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3998880" y="4510080"/>
            <a:ext cx="502920" cy="360360"/>
          </a:xfrm>
          <a:custGeom>
            <a:avLst/>
            <a:gdLst>
              <a:gd name="textAreaLeft" fmla="*/ 0 w 502920"/>
              <a:gd name="textAreaRight" fmla="*/ 503280 w 5029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4fac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4000" y="1168560"/>
            <a:ext cx="856908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3160"/>
                <a:tab algn="l" pos="1087560"/>
                <a:tab algn="l" pos="2001960"/>
                <a:tab algn="l" pos="2916360"/>
                <a:tab algn="l" pos="3830760"/>
                <a:tab algn="l" pos="4745160"/>
                <a:tab algn="l" pos="5659560"/>
                <a:tab algn="l" pos="6573960"/>
                <a:tab algn="l" pos="7488360"/>
                <a:tab algn="l" pos="8402760"/>
                <a:tab algn="l" pos="9317160"/>
                <a:tab algn="l" pos="102315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Globus Toolki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ervices to host a 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GridWay meta-schedul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o recursively interface to  </a:t>
            </a:r>
            <a:r>
              <a:rPr b="1" i="1" lang="en-GB" sz="1800" spc="-1" strike="noStrike">
                <a:solidFill>
                  <a:srgbClr val="32425d"/>
                </a:solidFill>
                <a:latin typeface="Arial"/>
              </a:rPr>
              <a:t>federated Grid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173160"/>
                <a:tab algn="l" pos="1087560"/>
                <a:tab algn="l" pos="2001960"/>
                <a:tab algn="l" pos="2916360"/>
                <a:tab algn="l" pos="3830760"/>
                <a:tab algn="l" pos="4745160"/>
                <a:tab algn="l" pos="5659560"/>
                <a:tab algn="l" pos="6573960"/>
                <a:tab algn="l" pos="7488360"/>
                <a:tab algn="l" pos="8402760"/>
                <a:tab algn="l" pos="9317160"/>
                <a:tab algn="l" pos="102315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173160"/>
                <a:tab algn="l" pos="1087560"/>
                <a:tab algn="l" pos="2001960"/>
                <a:tab algn="l" pos="2916360"/>
                <a:tab algn="l" pos="3830760"/>
                <a:tab algn="l" pos="4745160"/>
                <a:tab algn="l" pos="5659560"/>
                <a:tab algn="l" pos="6573960"/>
                <a:tab algn="l" pos="7488360"/>
                <a:tab algn="l" pos="8402760"/>
                <a:tab algn="l" pos="9317160"/>
                <a:tab algn="l" pos="102315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rot="10800000">
            <a:off x="3778920" y="1847520"/>
            <a:ext cx="4392360" cy="934920"/>
          </a:xfrm>
          <a:prstGeom prst="leftArrowCallout">
            <a:avLst>
              <a:gd name="adj1" fmla="val 25086"/>
              <a:gd name="adj2" fmla="val 33051"/>
              <a:gd name="adj3" fmla="val 46089"/>
              <a:gd name="adj4" fmla="val 86730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 rot="10800000">
            <a:noAutofit/>
          </a:bodyPr>
          <a:p>
            <a:pPr marL="173160" indent="-173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3160"/>
                <a:tab algn="l" pos="1087560"/>
                <a:tab algn="l" pos="2001960"/>
                <a:tab algn="l" pos="2916360"/>
                <a:tab algn="l" pos="3830760"/>
                <a:tab algn="l" pos="4745160"/>
                <a:tab algn="l" pos="5659560"/>
                <a:tab algn="l" pos="6573960"/>
                <a:tab algn="l" pos="7488360"/>
                <a:tab algn="l" pos="8402760"/>
                <a:tab algn="l" pos="9317160"/>
                <a:tab algn="l" pos="1023156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andard function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3160"/>
                <a:tab algn="l" pos="1087560"/>
                <a:tab algn="l" pos="2001960"/>
                <a:tab algn="l" pos="2916360"/>
                <a:tab algn="l" pos="3830760"/>
                <a:tab algn="l" pos="4745160"/>
                <a:tab algn="l" pos="5659560"/>
                <a:tab algn="l" pos="6573960"/>
                <a:tab algn="l" pos="7488360"/>
                <a:tab algn="l" pos="8402760"/>
                <a:tab algn="l" pos="9317160"/>
                <a:tab algn="l" pos="1023156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bstraction of the underlying D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3160"/>
                <a:tab algn="l" pos="1087560"/>
                <a:tab algn="l" pos="2001960"/>
                <a:tab algn="l" pos="2916360"/>
                <a:tab algn="l" pos="3830760"/>
                <a:tab algn="l" pos="4745160"/>
                <a:tab algn="l" pos="5659560"/>
                <a:tab algn="l" pos="6573960"/>
                <a:tab algn="l" pos="7488360"/>
                <a:tab algn="l" pos="8402760"/>
                <a:tab algn="l" pos="9317160"/>
                <a:tab algn="l" pos="1023156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irtualizes a whole Gri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364000" y="4897440"/>
            <a:ext cx="2376720" cy="792000"/>
          </a:xfrm>
          <a:prstGeom prst="leftArrowCallout">
            <a:avLst>
              <a:gd name="adj1" fmla="val 38235"/>
              <a:gd name="adj2" fmla="val 38481"/>
              <a:gd name="adj3" fmla="val 29856"/>
              <a:gd name="adj4" fmla="val 86869"/>
            </a:avLst>
          </a:prstGeom>
          <a:gradFill rotWithShape="0">
            <a:gsLst>
              <a:gs pos="0">
                <a:srgbClr val="ffffff"/>
              </a:gs>
              <a:gs pos="100000">
                <a:srgbClr val="004fac">
                  <a:alpha val="60000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noAutofit/>
          </a:bodyPr>
          <a:p>
            <a:pPr marL="173160" indent="-173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3160"/>
                <a:tab algn="l" pos="1087560"/>
                <a:tab algn="l" pos="2001960"/>
                <a:tab algn="l" pos="2916360"/>
                <a:tab algn="l" pos="3830760"/>
                <a:tab algn="l" pos="4745160"/>
                <a:tab algn="l" pos="5659560"/>
                <a:tab algn="l" pos="6573960"/>
                <a:tab algn="l" pos="7488360"/>
                <a:tab algn="l" pos="8402760"/>
                <a:tab algn="l" pos="9317160"/>
                <a:tab algn="l" pos="1023156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nterprise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3160"/>
                <a:tab algn="l" pos="1087560"/>
                <a:tab algn="l" pos="2001960"/>
                <a:tab algn="l" pos="2916360"/>
                <a:tab algn="l" pos="3830760"/>
                <a:tab algn="l" pos="4745160"/>
                <a:tab algn="l" pos="5659560"/>
                <a:tab algn="l" pos="6573960"/>
                <a:tab algn="l" pos="7488360"/>
                <a:tab algn="l" pos="8402760"/>
                <a:tab algn="l" pos="9317160"/>
                <a:tab algn="l" pos="1023156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rtner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3160"/>
                <a:tab algn="l" pos="1087560"/>
                <a:tab algn="l" pos="2001960"/>
                <a:tab algn="l" pos="2916360"/>
                <a:tab algn="l" pos="3830760"/>
                <a:tab algn="l" pos="4745160"/>
                <a:tab algn="l" pos="5659560"/>
                <a:tab algn="l" pos="6573960"/>
                <a:tab algn="l" pos="7488360"/>
                <a:tab algn="l" pos="8402760"/>
                <a:tab algn="l" pos="9317160"/>
                <a:tab algn="l" pos="1023156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tility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2339640" y="1987560"/>
            <a:ext cx="608400" cy="3606840"/>
            <a:chOff x="2339640" y="1987560"/>
            <a:chExt cx="608400" cy="3606840"/>
          </a:xfrm>
        </p:grpSpPr>
        <p:sp>
          <p:nvSpPr>
            <p:cNvPr id="431" name=""/>
            <p:cNvSpPr/>
            <p:nvPr/>
          </p:nvSpPr>
          <p:spPr>
            <a:xfrm>
              <a:off x="2589120" y="5091120"/>
              <a:ext cx="358920" cy="503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324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589120" y="1987560"/>
              <a:ext cx="358920" cy="503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324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10800000">
              <a:off x="2339640" y="2112840"/>
              <a:ext cx="320760" cy="3355920"/>
            </a:xfrm>
            <a:prstGeom prst="rect">
              <a:avLst/>
            </a:prstGeom>
            <a:solidFill>
              <a:srgbClr val="324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Consumer/Provider relationshi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324000" y="5872320"/>
            <a:ext cx="856908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lnSpc>
                <a:spcPct val="100000"/>
              </a:lnSpc>
              <a:buClr>
                <a:srgbClr val="32425d"/>
              </a:buClr>
              <a:buFont typeface="Arial"/>
              <a:buChar char="•"/>
              <a:tabLst>
                <a:tab algn="l" pos="173160"/>
                <a:tab algn="l" pos="1087560"/>
                <a:tab algn="l" pos="2001960"/>
                <a:tab algn="l" pos="2916360"/>
                <a:tab algn="l" pos="3830760"/>
                <a:tab algn="l" pos="4745160"/>
                <a:tab algn="l" pos="5659560"/>
                <a:tab algn="l" pos="6573960"/>
                <a:tab algn="l" pos="7488360"/>
                <a:tab algn="l" pos="8402760"/>
                <a:tab algn="l" pos="9317160"/>
                <a:tab algn="l" pos="10231560"/>
                <a:tab algn="l" pos="10515600"/>
              </a:tabLst>
            </a:pPr>
            <a:r>
              <a:rPr b="1" i="1" lang="en-GB" sz="1800" spc="-1" strike="noStrike">
                <a:solidFill>
                  <a:srgbClr val="32425d"/>
                </a:solidFill>
                <a:latin typeface="Arial"/>
              </a:rPr>
              <a:t>Grid Technology Meets Utility Requirements by Means of its Standard Functionality for Flexible Integration of Diverse Distributed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173160"/>
                <a:tab algn="l" pos="1087560"/>
                <a:tab algn="l" pos="2001960"/>
                <a:tab algn="l" pos="2916360"/>
                <a:tab algn="l" pos="3830760"/>
                <a:tab algn="l" pos="4745160"/>
                <a:tab algn="l" pos="5659560"/>
                <a:tab algn="l" pos="6573960"/>
                <a:tab algn="l" pos="7488360"/>
                <a:tab algn="l" pos="8402760"/>
                <a:tab algn="l" pos="9317160"/>
                <a:tab algn="l" pos="102315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243000" y="1123920"/>
            <a:ext cx="4248000" cy="2952720"/>
          </a:xfrm>
          <a:prstGeom prst="roundRect">
            <a:avLst>
              <a:gd name="adj" fmla="val 5162"/>
            </a:avLst>
          </a:prstGeom>
          <a:solidFill>
            <a:srgbClr val="ccccff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4920" y="45720"/>
            <a:ext cx="8137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1280" indent="0"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. Scheduling Infrastructures with GridWay 5.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387360" y="2757600"/>
            <a:ext cx="1150920" cy="763560"/>
            <a:chOff x="387360" y="2757600"/>
            <a:chExt cx="1150920" cy="763560"/>
          </a:xfrm>
        </p:grpSpPr>
        <p:sp>
          <p:nvSpPr>
            <p:cNvPr id="438" name=""/>
            <p:cNvSpPr/>
            <p:nvPr/>
          </p:nvSpPr>
          <p:spPr>
            <a:xfrm>
              <a:off x="387360" y="2757600"/>
              <a:ext cx="1150920" cy="3603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Glob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87360" y="3160800"/>
              <a:ext cx="1150920" cy="360360"/>
            </a:xfrm>
            <a:prstGeom prst="roundRect">
              <a:avLst>
                <a:gd name="adj" fmla="val 16667"/>
              </a:avLst>
            </a:prstGeom>
            <a:solidFill>
              <a:srgbClr val="004fa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SGE Clus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387360" y="167148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3242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7360" y="126828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ccecff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1639800" y="2757600"/>
            <a:ext cx="1150920" cy="763560"/>
            <a:chOff x="1639800" y="2757600"/>
            <a:chExt cx="1150920" cy="763560"/>
          </a:xfrm>
        </p:grpSpPr>
        <p:sp>
          <p:nvSpPr>
            <p:cNvPr id="443" name=""/>
            <p:cNvSpPr/>
            <p:nvPr/>
          </p:nvSpPr>
          <p:spPr>
            <a:xfrm>
              <a:off x="1639800" y="2757600"/>
              <a:ext cx="1150920" cy="3603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Glob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639800" y="3160800"/>
              <a:ext cx="1150920" cy="360360"/>
            </a:xfrm>
            <a:prstGeom prst="roundRect">
              <a:avLst>
                <a:gd name="adj" fmla="val 16667"/>
              </a:avLst>
            </a:prstGeom>
            <a:solidFill>
              <a:srgbClr val="004fac">
                <a:alpha val="7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BS Clus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3209760" y="2759040"/>
            <a:ext cx="1151280" cy="3603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lo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209760" y="3162240"/>
            <a:ext cx="1151280" cy="360360"/>
          </a:xfrm>
          <a:prstGeom prst="roundRect">
            <a:avLst>
              <a:gd name="adj" fmla="val 16667"/>
            </a:avLst>
          </a:prstGeom>
          <a:solidFill>
            <a:srgbClr val="004fa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SF Clu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63800" y="3139920"/>
            <a:ext cx="246240" cy="1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8" name=""/>
          <p:cNvCxnSpPr>
            <a:stCxn id="440" idx="2"/>
            <a:endCxn id="438" idx="0"/>
          </p:cNvCxnSpPr>
          <p:nvPr/>
        </p:nvCxnSpPr>
        <p:spPr>
          <a:xfrm>
            <a:off x="961560" y="2031840"/>
            <a:ext cx="2520" cy="726480"/>
          </a:xfrm>
          <a:prstGeom prst="bentConnector3">
            <a:avLst>
              <a:gd name="adj1" fmla="val 50000"/>
            </a:avLst>
          </a:prstGeom>
          <a:ln w="76320">
            <a:solidFill>
              <a:srgbClr val="5f5f5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9" name=""/>
          <p:cNvCxnSpPr>
            <a:endCxn id="445" idx="0"/>
          </p:cNvCxnSpPr>
          <p:nvPr/>
        </p:nvCxnSpPr>
        <p:spPr>
          <a:xfrm>
            <a:off x="998280" y="2383920"/>
            <a:ext cx="2788200" cy="375480"/>
          </a:xfrm>
          <a:prstGeom prst="bentConnector3">
            <a:avLst>
              <a:gd name="adj1" fmla="val 50000"/>
            </a:avLst>
          </a:prstGeom>
          <a:ln w="76320">
            <a:solidFill>
              <a:srgbClr val="5f5f5f"/>
            </a:solidFill>
            <a:miter/>
            <a:tailEnd len="med" type="triangle" w="med"/>
          </a:ln>
        </p:spPr>
      </p:cxnSp>
      <p:cxnSp>
        <p:nvCxnSpPr>
          <p:cNvPr id="450" name=""/>
          <p:cNvCxnSpPr>
            <a:endCxn id="443" idx="0"/>
          </p:cNvCxnSpPr>
          <p:nvPr/>
        </p:nvCxnSpPr>
        <p:spPr>
          <a:xfrm>
            <a:off x="998640" y="2383920"/>
            <a:ext cx="1216800" cy="374040"/>
          </a:xfrm>
          <a:prstGeom prst="bentConnector3">
            <a:avLst>
              <a:gd name="adj1" fmla="val 49985"/>
            </a:avLst>
          </a:prstGeom>
          <a:ln w="76320">
            <a:solidFill>
              <a:srgbClr val="5f5f5f"/>
            </a:solidFill>
            <a:miter/>
            <a:tailEnd len="med" type="triangle" w="med"/>
          </a:ln>
        </p:spPr>
      </p:cxnSp>
      <p:sp>
        <p:nvSpPr>
          <p:cNvPr id="451" name=""/>
          <p:cNvSpPr/>
          <p:nvPr/>
        </p:nvSpPr>
        <p:spPr>
          <a:xfrm>
            <a:off x="345600" y="3666960"/>
            <a:ext cx="392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Grid Infrastructure (Partner/Enterprise)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653840" y="1655640"/>
            <a:ext cx="270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Site-Level Meta-Schedu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4635360" y="2276640"/>
            <a:ext cx="4248360" cy="3600360"/>
            <a:chOff x="4635360" y="2276640"/>
            <a:chExt cx="4248360" cy="3600360"/>
          </a:xfrm>
        </p:grpSpPr>
        <p:sp>
          <p:nvSpPr>
            <p:cNvPr id="454" name=""/>
            <p:cNvSpPr/>
            <p:nvPr/>
          </p:nvSpPr>
          <p:spPr>
            <a:xfrm>
              <a:off x="4635360" y="2276640"/>
              <a:ext cx="4248360" cy="3600360"/>
            </a:xfrm>
            <a:prstGeom prst="roundRect">
              <a:avLst>
                <a:gd name="adj" fmla="val 5162"/>
              </a:avLst>
            </a:prstGeom>
            <a:solidFill>
              <a:srgbClr val="c0c0c0">
                <a:alpha val="3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4786200" y="4657680"/>
              <a:ext cx="1150920" cy="763560"/>
              <a:chOff x="4786200" y="4657680"/>
              <a:chExt cx="1150920" cy="763560"/>
            </a:xfrm>
          </p:grpSpPr>
          <p:sp>
            <p:nvSpPr>
              <p:cNvPr id="456" name=""/>
              <p:cNvSpPr/>
              <p:nvPr/>
            </p:nvSpPr>
            <p:spPr>
              <a:xfrm>
                <a:off x="4786200" y="4657680"/>
                <a:ext cx="115092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Globu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786200" y="5060880"/>
                <a:ext cx="115092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004fa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</a:rPr>
                  <a:t>SGE Clust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4678200" y="3571920"/>
              <a:ext cx="1366920" cy="360360"/>
            </a:xfrm>
            <a:prstGeom prst="roundRect">
              <a:avLst>
                <a:gd name="adj" fmla="val 16667"/>
              </a:avLst>
            </a:prstGeom>
            <a:solidFill>
              <a:srgbClr val="3242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ridW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6032520" y="4657680"/>
              <a:ext cx="1150920" cy="763560"/>
              <a:chOff x="6032520" y="4657680"/>
              <a:chExt cx="1150920" cy="763560"/>
            </a:xfrm>
          </p:grpSpPr>
          <p:sp>
            <p:nvSpPr>
              <p:cNvPr id="460" name=""/>
              <p:cNvSpPr/>
              <p:nvPr/>
            </p:nvSpPr>
            <p:spPr>
              <a:xfrm>
                <a:off x="6032520" y="4657680"/>
                <a:ext cx="115092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Globu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032520" y="5060880"/>
                <a:ext cx="115092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004fac">
                  <a:alpha val="7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</a:rPr>
                  <a:t>PBS Clust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7602480" y="4659480"/>
              <a:ext cx="1150920" cy="763560"/>
              <a:chOff x="7602480" y="4659480"/>
              <a:chExt cx="1150920" cy="763560"/>
            </a:xfrm>
          </p:grpSpPr>
          <p:sp>
            <p:nvSpPr>
              <p:cNvPr id="463" name=""/>
              <p:cNvSpPr/>
              <p:nvPr/>
            </p:nvSpPr>
            <p:spPr>
              <a:xfrm>
                <a:off x="7602480" y="4659480"/>
                <a:ext cx="115092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Globu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602480" y="5062680"/>
                <a:ext cx="115092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004fa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</a:rPr>
                  <a:t>LSF Clust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7256520" y="5040360"/>
              <a:ext cx="245880" cy="144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58" idx="2"/>
              <a:endCxn id="456" idx="0"/>
            </p:cNvCxnSpPr>
            <p:nvPr/>
          </p:nvCxnSpPr>
          <p:spPr>
            <a:xfrm>
              <a:off x="5361120" y="3931920"/>
              <a:ext cx="2160" cy="726120"/>
            </a:xfrm>
            <a:prstGeom prst="bentConnector3">
              <a:avLst>
                <a:gd name="adj1" fmla="val 40000"/>
              </a:avLst>
            </a:prstGeom>
            <a:ln w="76320">
              <a:solidFill>
                <a:srgbClr val="5f5f5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67" name=""/>
            <p:cNvCxnSpPr>
              <a:endCxn id="463" idx="0"/>
            </p:cNvCxnSpPr>
            <p:nvPr/>
          </p:nvCxnSpPr>
          <p:spPr>
            <a:xfrm>
              <a:off x="5390640" y="4284360"/>
              <a:ext cx="2786760" cy="375480"/>
            </a:xfrm>
            <a:prstGeom prst="bentConnector3">
              <a:avLst>
                <a:gd name="adj1" fmla="val 50000"/>
              </a:avLst>
            </a:prstGeom>
            <a:ln w="76320">
              <a:solidFill>
                <a:srgbClr val="5f5f5f"/>
              </a:solidFill>
              <a:miter/>
              <a:tailEnd len="med" type="triangle" w="med"/>
            </a:ln>
          </p:spPr>
        </p:cxnSp>
        <p:cxnSp>
          <p:nvCxnSpPr>
            <p:cNvPr id="468" name=""/>
            <p:cNvCxnSpPr>
              <a:endCxn id="460" idx="0"/>
            </p:cNvCxnSpPr>
            <p:nvPr/>
          </p:nvCxnSpPr>
          <p:spPr>
            <a:xfrm>
              <a:off x="5391000" y="4284720"/>
              <a:ext cx="1216800" cy="373680"/>
            </a:xfrm>
            <a:prstGeom prst="bentConnector3">
              <a:avLst>
                <a:gd name="adj1" fmla="val 49985"/>
              </a:avLst>
            </a:prstGeom>
            <a:ln w="76320">
              <a:solidFill>
                <a:srgbClr val="5f5f5f"/>
              </a:solidFill>
              <a:miter/>
              <a:tailEnd len="med" type="triangle" w="med"/>
            </a:ln>
          </p:spPr>
        </p:cxnSp>
        <p:sp>
          <p:nvSpPr>
            <p:cNvPr id="469" name=""/>
            <p:cNvSpPr/>
            <p:nvPr/>
          </p:nvSpPr>
          <p:spPr>
            <a:xfrm>
              <a:off x="4738320" y="5538960"/>
              <a:ext cx="392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66"/>
                  </a:solidFill>
                  <a:latin typeface="Arial"/>
                </a:rPr>
                <a:t>Grid Infrastructure (Partner/Enterprise)</a:t>
              </a:r>
              <a:r>
                <a:rPr b="1" lang="en-GB" sz="1600" spc="-1" strike="noStrike">
                  <a:solidFill>
                    <a:srgbClr val="000066"/>
                  </a:solidFill>
                  <a:latin typeface="Arial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109920" y="3584520"/>
              <a:ext cx="270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66"/>
                  </a:solidFill>
                  <a:latin typeface="Arial"/>
                </a:rPr>
                <a:t>Site-Level Meta-Schedu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397480" y="3168720"/>
              <a:ext cx="647640" cy="360360"/>
            </a:xfrm>
            <a:prstGeom prst="roundRect">
              <a:avLst>
                <a:gd name="adj" fmla="val 16667"/>
              </a:avLst>
            </a:prstGeom>
            <a:solidFill>
              <a:srgbClr val="ccecff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Us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5038200" y="1239840"/>
            <a:ext cx="4058280" cy="1526040"/>
            <a:chOff x="5038200" y="1239840"/>
            <a:chExt cx="4058280" cy="1526040"/>
          </a:xfrm>
        </p:grpSpPr>
        <p:cxnSp>
          <p:nvCxnSpPr>
            <p:cNvPr id="473" name=""/>
            <p:cNvCxnSpPr>
              <a:endCxn id="474" idx="0"/>
            </p:cNvCxnSpPr>
            <p:nvPr/>
          </p:nvCxnSpPr>
          <p:spPr>
            <a:xfrm>
              <a:off x="5038200" y="1239840"/>
              <a:ext cx="2520" cy="1526400"/>
            </a:xfrm>
            <a:prstGeom prst="straightConnector1">
              <a:avLst/>
            </a:prstGeom>
            <a:ln w="76320">
              <a:solidFill>
                <a:srgbClr val="960000"/>
              </a:solidFill>
              <a:miter/>
              <a:tailEnd len="med" type="triangle" w="med"/>
            </a:ln>
          </p:spPr>
        </p:cxnSp>
        <p:sp>
          <p:nvSpPr>
            <p:cNvPr id="475" name=""/>
            <p:cNvSpPr/>
            <p:nvPr/>
          </p:nvSpPr>
          <p:spPr>
            <a:xfrm>
              <a:off x="5149800" y="1268280"/>
              <a:ext cx="394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32425d"/>
                  </a:solidFill>
                  <a:latin typeface="Arial"/>
                </a:rPr>
                <a:t>globus-job-run, Condor/G, Nimrod/G 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998640" y="1914480"/>
            <a:ext cx="7495920" cy="1614600"/>
            <a:chOff x="998640" y="1914480"/>
            <a:chExt cx="7495920" cy="1614600"/>
          </a:xfrm>
        </p:grpSpPr>
        <p:grpSp>
          <p:nvGrpSpPr>
            <p:cNvPr id="477" name=""/>
            <p:cNvGrpSpPr/>
            <p:nvPr/>
          </p:nvGrpSpPr>
          <p:grpSpPr>
            <a:xfrm>
              <a:off x="998640" y="2383920"/>
              <a:ext cx="4400280" cy="1145160"/>
              <a:chOff x="998640" y="2383920"/>
              <a:chExt cx="4400280" cy="1145160"/>
            </a:xfrm>
          </p:grpSpPr>
          <p:grpSp>
            <p:nvGrpSpPr>
              <p:cNvPr id="478" name=""/>
              <p:cNvGrpSpPr/>
              <p:nvPr/>
            </p:nvGrpSpPr>
            <p:grpSpPr>
              <a:xfrm>
                <a:off x="4678200" y="2765520"/>
                <a:ext cx="720720" cy="763560"/>
                <a:chOff x="4678200" y="2765520"/>
                <a:chExt cx="720720" cy="76356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4678200" y="3168720"/>
                  <a:ext cx="719280" cy="36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993366">
                    <a:alpha val="2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User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4678200" y="2765520"/>
                  <a:ext cx="720720" cy="36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Globu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80" name=""/>
              <p:cNvCxnSpPr>
                <a:endCxn id="474" idx="0"/>
              </p:cNvCxnSpPr>
              <p:nvPr/>
            </p:nvCxnSpPr>
            <p:spPr>
              <a:xfrm>
                <a:off x="998640" y="2383920"/>
                <a:ext cx="4040280" cy="381960"/>
              </a:xfrm>
              <a:prstGeom prst="bentConnector3">
                <a:avLst>
                  <a:gd name="adj1" fmla="val 50000"/>
                </a:avLst>
              </a:prstGeom>
              <a:ln w="76320">
                <a:solidFill>
                  <a:srgbClr val="960000"/>
                </a:solidFill>
                <a:miter/>
                <a:tailEnd len="med" type="triangle" w="med"/>
              </a:ln>
            </p:spPr>
          </p:cxnSp>
        </p:grpSp>
        <p:sp>
          <p:nvSpPr>
            <p:cNvPr id="481" name=""/>
            <p:cNvSpPr/>
            <p:nvPr/>
          </p:nvSpPr>
          <p:spPr>
            <a:xfrm>
              <a:off x="5072400" y="1914480"/>
              <a:ext cx="342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a50021"/>
                  </a:solidFill>
                  <a:latin typeface="Arial"/>
                </a:rPr>
                <a:t>Access to Outsourced Resour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1925640" y="4281480"/>
            <a:ext cx="3400560" cy="1572480"/>
            <a:chOff x="1925640" y="4281480"/>
            <a:chExt cx="3400560" cy="1572480"/>
          </a:xfrm>
        </p:grpSpPr>
        <p:grpSp>
          <p:nvGrpSpPr>
            <p:cNvPr id="483" name=""/>
            <p:cNvGrpSpPr/>
            <p:nvPr/>
          </p:nvGrpSpPr>
          <p:grpSpPr>
            <a:xfrm>
              <a:off x="2476440" y="4281480"/>
              <a:ext cx="2849760" cy="1135080"/>
              <a:chOff x="2476440" y="4281480"/>
              <a:chExt cx="2849760" cy="1135080"/>
            </a:xfrm>
          </p:grpSpPr>
          <p:grpSp>
            <p:nvGrpSpPr>
              <p:cNvPr id="484" name=""/>
              <p:cNvGrpSpPr/>
              <p:nvPr/>
            </p:nvGrpSpPr>
            <p:grpSpPr>
              <a:xfrm>
                <a:off x="2476440" y="4653000"/>
                <a:ext cx="1150920" cy="763560"/>
                <a:chOff x="2476440" y="4653000"/>
                <a:chExt cx="1150920" cy="76356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2476440" y="4653000"/>
                  <a:ext cx="1150920" cy="36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Globu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2476440" y="5056200"/>
                  <a:ext cx="1150920" cy="36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4fa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Utility Gr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87" name=""/>
              <p:cNvCxnSpPr>
                <a:endCxn id="485" idx="0"/>
              </p:cNvCxnSpPr>
              <p:nvPr/>
            </p:nvCxnSpPr>
            <p:spPr>
              <a:xfrm flipV="1" rot="10800000">
                <a:off x="3050280" y="4281120"/>
                <a:ext cx="2275920" cy="372240"/>
              </a:xfrm>
              <a:prstGeom prst="bentConnector3">
                <a:avLst>
                  <a:gd name="adj1" fmla="val 49992"/>
                </a:avLst>
              </a:prstGeom>
              <a:ln w="76320">
                <a:solidFill>
                  <a:srgbClr val="960000"/>
                </a:solidFill>
                <a:miter/>
                <a:tailEnd len="med" type="triangle" w="med"/>
              </a:ln>
            </p:spPr>
          </p:cxnSp>
        </p:grpSp>
        <p:sp>
          <p:nvSpPr>
            <p:cNvPr id="488" name=""/>
            <p:cNvSpPr/>
            <p:nvPr/>
          </p:nvSpPr>
          <p:spPr>
            <a:xfrm>
              <a:off x="1925640" y="5516640"/>
              <a:ext cx="23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a50021"/>
                  </a:solidFill>
                  <a:latin typeface="Arial"/>
                </a:rPr>
                <a:t>Virtualization of a Gr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4678200" y="2751120"/>
            <a:ext cx="3494880" cy="1187640"/>
            <a:chOff x="4678200" y="2751120"/>
            <a:chExt cx="3494880" cy="1187640"/>
          </a:xfrm>
        </p:grpSpPr>
        <p:sp>
          <p:nvSpPr>
            <p:cNvPr id="490" name=""/>
            <p:cNvSpPr/>
            <p:nvPr/>
          </p:nvSpPr>
          <p:spPr>
            <a:xfrm>
              <a:off x="4678200" y="2751120"/>
              <a:ext cx="719280" cy="1187640"/>
            </a:xfrm>
            <a:custGeom>
              <a:avLst/>
              <a:gdLst>
                <a:gd name="textAreaLeft" fmla="*/ 34920 w 719280"/>
                <a:gd name="textAreaRight" fmla="*/ 684360 w 719280"/>
                <a:gd name="textAreaTop" fmla="*/ 34920 h 1187640"/>
                <a:gd name="textAreaBottom" fmla="*/ 1152720 h 1187640"/>
              </a:gdLst>
              <a:ahLst/>
              <a:rect l="textAreaLeft" t="textAreaTop" r="textAreaRight" b="textAreaBottom"/>
              <a:pathLst>
                <a:path w="21600" h="35658">
                  <a:moveTo>
                    <a:pt x="3600" y="0"/>
                  </a:moveTo>
                  <a:arcTo wR="3600" hR="3600" stAng="16200000" swAng="-5400000"/>
                  <a:lnTo>
                    <a:pt x="0" y="32058"/>
                  </a:lnTo>
                  <a:arcTo wR="3600" hR="3600" stAng="10800000" swAng="-5400000"/>
                  <a:lnTo>
                    <a:pt x="18000" y="356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2425d">
                <a:alpha val="3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579720" y="2792520"/>
              <a:ext cx="159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GRID-GATEW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10800000">
              <a:off x="5429160" y="2768400"/>
              <a:ext cx="1008000" cy="36036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 fill="hold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 fill="hold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 fill="hold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dur="indefinite" fill="hold">
                      <p:stCondLst>
                        <p:cond delay="indefinite"/>
                      </p:stCondLst>
                      <p:childTnLst>
                        <p:par>
                          <p:cTn id="1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 fill="hold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4920" y="45720"/>
            <a:ext cx="8137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1280" indent="0"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. Project Status &amp; Roadma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79280" y="803160"/>
            <a:ext cx="8713800" cy="1978200"/>
          </a:xfrm>
          <a:prstGeom prst="roundRect">
            <a:avLst>
              <a:gd name="adj" fmla="val 31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08000" y="620640"/>
            <a:ext cx="302400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425d"/>
              </a:gs>
              <a:gs pos="50000">
                <a:srgbClr val="fefefe"/>
              </a:gs>
              <a:gs pos="100000">
                <a:srgbClr val="32425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2425d"/>
                </a:solidFill>
                <a:latin typeface="Arial"/>
              </a:rPr>
              <a:t>History of the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79280" y="1130400"/>
            <a:ext cx="871380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lnSpc>
                <a:spcPct val="130000"/>
              </a:lnSpc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rted in 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200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first releases were only distributed on request in binary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just">
              <a:lnSpc>
                <a:spcPct val="130000"/>
              </a:lnSpc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rst open source release, GridWay 4.0, in 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January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just">
              <a:lnSpc>
                <a:spcPct val="130000"/>
              </a:lnSpc>
              <a:spcAft>
                <a:spcPts val="224"/>
              </a:spcAft>
              <a:buClr>
                <a:srgbClr val="32425d"/>
              </a:buClr>
              <a:buFont typeface="Arial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GridWay 5.0 was release in June 2006 (Apache license v2)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just">
              <a:lnSpc>
                <a:spcPct val="130000"/>
              </a:lnSpc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June 2006 GridWay joined the 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Globus Incubator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84040" y="3263760"/>
            <a:ext cx="864252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79280" y="3224160"/>
            <a:ext cx="8785440" cy="3229200"/>
          </a:xfrm>
          <a:prstGeom prst="roundRect">
            <a:avLst>
              <a:gd name="adj" fmla="val 3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17360" y="2927520"/>
            <a:ext cx="359100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425d"/>
              </a:gs>
              <a:gs pos="50000">
                <a:srgbClr val="fefefe"/>
              </a:gs>
              <a:gs pos="100000">
                <a:srgbClr val="32425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2425d"/>
                </a:solidFill>
                <a:latin typeface="Arial"/>
              </a:rPr>
              <a:t>Downloads &amp; Use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50920" y="3486240"/>
            <a:ext cx="86421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ce January 2005, more than 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500 downloads from 54 different countries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5% are private companies and 75% are universities and research centres</a:t>
            </a:r>
            <a:r>
              <a:rPr b="0" lang="en-GB" sz="1800" spc="-1" strike="noStrike">
                <a:solidFill>
                  <a:srgbClr val="32425d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marL="179280" indent="-179280">
              <a:spcBef>
                <a:spcPts val="799"/>
              </a:spcBef>
              <a:buClr>
                <a:srgbClr val="32425d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Enterprise/Campus Grids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1" marL="358920" indent="0"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rid Activities at 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ESAC (ESA),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Campus grid deployed by 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Universidade do Porto and Sun Microsystem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799"/>
              </a:spcBef>
              <a:buClr>
                <a:srgbClr val="32425d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Partner Grids: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1" marL="358920" indent="0"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IRISGrid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The Spanish National Grid Infrastructure), 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EGE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CABGrid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A Virtual Laboratory for Computational Astrobiology), 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C2VO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Grid infrastructure development for the implementation of a Computational Chemistry Virtual Organization), 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CRO-GRID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nfrastructure, Sun Solution Center World Grid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6818400" y="1806480"/>
            <a:ext cx="2016000" cy="9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179280" y="768240"/>
            <a:ext cx="8713800" cy="2373480"/>
          </a:xfrm>
          <a:prstGeom prst="roundRect">
            <a:avLst>
              <a:gd name="adj" fmla="val 57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4920" y="45720"/>
            <a:ext cx="8137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1280" indent="0"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. Project Status &amp; Roadma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08000" y="563400"/>
            <a:ext cx="345600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425d"/>
              </a:gs>
              <a:gs pos="50000">
                <a:srgbClr val="fefefe"/>
              </a:gs>
              <a:gs pos="100000">
                <a:srgbClr val="32425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2425d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7960" y="1025640"/>
            <a:ext cx="847260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32425d"/>
              </a:buClr>
              <a:buFont typeface="Arial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Community – Open Source Project. Globus Development Philosophy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32425d"/>
              </a:buClr>
              <a:buFont typeface="Arial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Development Infrastructure (thanks to Globus Project!):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iling Lists, Bugzilla, CV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32425d"/>
              </a:buClr>
              <a:buFont typeface="Arial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You are very welcome to contribu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Reporting Bugs (gridway-user@globus.org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Making feature requests for the next GridWay release (gridway-user@globus.org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Contributing your own developments (bug fixes, new features, documentation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79280" y="3475080"/>
            <a:ext cx="8713800" cy="3006720"/>
          </a:xfrm>
          <a:prstGeom prst="roundRect">
            <a:avLst>
              <a:gd name="adj" fmla="val 57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08000" y="3270240"/>
            <a:ext cx="345600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425d"/>
              </a:gs>
              <a:gs pos="50000">
                <a:srgbClr val="fefefe"/>
              </a:gs>
              <a:gs pos="100000">
                <a:srgbClr val="32425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2425d"/>
                </a:solidFill>
                <a:latin typeface="Arial"/>
              </a:rPr>
              <a:t>Road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37960" y="3720960"/>
            <a:ext cx="8472600" cy="27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32425d"/>
              </a:buClr>
              <a:buFont typeface="Arial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Support GridWay user Community &amp; Bug Fix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xt Release will support 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Utilit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eployments 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out-of-the-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32425d"/>
              </a:buClr>
              <a:buFont typeface="Arial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Incorporate new features of Globu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Projects (GRAM, GridFTP, RFT, MDS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grate with 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other Globus Projec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Virtual Workspaces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tailed Roadma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32425d"/>
              </a:buClr>
              <a:buFont typeface="Arial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  <a:ea typeface="Arial"/>
              </a:rPr>
              <a:t>GridWay Campaign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at bugzilla.mcs.anl.gov/globus/query.cg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ww-unix.mcs.anl.gov/~bacon/cgi-bin/big-roadmap.cgi#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lease 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announcemen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gridway-announce@globus.o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4920" y="45720"/>
            <a:ext cx="8137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1280" indent="0"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. More Information: The GridWay Metaschedul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065480" y="616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250280" y="728640"/>
            <a:ext cx="66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formation and download at http://www.GridWay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399280" cy="488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179280" y="793800"/>
            <a:ext cx="8785440" cy="5371920"/>
          </a:xfrm>
          <a:prstGeom prst="roundRect">
            <a:avLst>
              <a:gd name="adj" fmla="val 3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4920" y="45720"/>
            <a:ext cx="8137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1280" indent="0"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. More Inform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92200" y="1486080"/>
            <a:ext cx="802332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id Ecosystem a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obu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utorial a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B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llation on Solaris a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n Microsystem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MAA support and scheduling use case a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G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4033800" y="4859280"/>
            <a:ext cx="762120" cy="74448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3708360" y="3903840"/>
            <a:ext cx="1150920" cy="53496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3695760" y="1486080"/>
            <a:ext cx="1523880" cy="72360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4"/>
          <a:stretch/>
        </p:blipFill>
        <p:spPr>
          <a:xfrm>
            <a:off x="3938760" y="2873520"/>
            <a:ext cx="993600" cy="3823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100080" y="682560"/>
            <a:ext cx="497664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95c75"/>
              </a:gs>
              <a:gs pos="50000">
                <a:srgbClr val="fefefe"/>
              </a:gs>
              <a:gs pos="100000">
                <a:srgbClr val="395c7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More Information and Tuto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813744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1280" indent="0"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GridWay Metaschedul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478880" y="2708280"/>
            <a:ext cx="608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Thank you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for your attention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39600"/>
            <a:ext cx="78120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id Scheduling Infrastructures with the GridWay Metaschedul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907920"/>
            <a:ext cx="8642160" cy="4608720"/>
          </a:xfrm>
          <a:prstGeom prst="roundRect">
            <a:avLst>
              <a:gd name="adj" fmla="val 44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2040" y="1149480"/>
            <a:ext cx="835668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Global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idWay 5.0  Features and Bene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idWay 5.0 Scheduling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eduling Infrastructures with GridWay 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216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nterprise Gr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216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rtner Gr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216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tility Gr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ject Status &amp; Road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400" y="692280"/>
            <a:ext cx="145224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425d"/>
              </a:gs>
              <a:gs pos="50000">
                <a:srgbClr val="fefefe"/>
              </a:gs>
              <a:gs pos="100000">
                <a:srgbClr val="32425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2425d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9600"/>
            <a:ext cx="716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1280" indent="0"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. The Global View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5630760"/>
            <a:ext cx="4176720" cy="592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984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3683160"/>
            <a:ext cx="4176720" cy="194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2387520"/>
            <a:ext cx="417672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819000"/>
            <a:ext cx="4176720" cy="156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71640" y="2387520"/>
            <a:ext cx="4537080" cy="180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3683160"/>
            <a:ext cx="4537080" cy="144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71640" y="5627520"/>
            <a:ext cx="4537080" cy="180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64000" y="2387520"/>
            <a:ext cx="1800" cy="1295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64000" y="5627520"/>
            <a:ext cx="1800" cy="59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30480" y="5700600"/>
            <a:ext cx="647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984ff"/>
              </a:gs>
              <a:gs pos="50000">
                <a:srgbClr val="fefefe"/>
              </a:gs>
              <a:gs pos="100000">
                <a:srgbClr val="0984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30480" y="2944800"/>
            <a:ext cx="1800000" cy="67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id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82840" y="5700600"/>
            <a:ext cx="647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984ff"/>
              </a:gs>
              <a:gs pos="50000">
                <a:srgbClr val="fefefe"/>
              </a:gs>
              <a:gs pos="100000">
                <a:srgbClr val="0984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949400" y="5862600"/>
            <a:ext cx="325440" cy="36720"/>
            <a:chOff x="1949400" y="5862600"/>
            <a:chExt cx="325440" cy="36720"/>
          </a:xfrm>
        </p:grpSpPr>
        <p:sp>
          <p:nvSpPr>
            <p:cNvPr id="122" name=""/>
            <p:cNvSpPr/>
            <p:nvPr/>
          </p:nvSpPr>
          <p:spPr>
            <a:xfrm>
              <a:off x="1949400" y="5862600"/>
              <a:ext cx="3672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93760" y="5862600"/>
              <a:ext cx="3672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38480" y="5862600"/>
              <a:ext cx="3636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357280" y="1214280"/>
            <a:ext cx="919440" cy="957600"/>
            <a:chOff x="2357280" y="1214280"/>
            <a:chExt cx="919440" cy="957600"/>
          </a:xfrm>
        </p:grpSpPr>
        <p:sp>
          <p:nvSpPr>
            <p:cNvPr id="126" name=""/>
            <p:cNvSpPr/>
            <p:nvPr/>
          </p:nvSpPr>
          <p:spPr>
            <a:xfrm>
              <a:off x="2428920" y="1214280"/>
              <a:ext cx="792000" cy="792360"/>
            </a:xfrm>
            <a:prstGeom prst="rect">
              <a:avLst/>
            </a:prstGeom>
            <a:solidFill>
              <a:srgbClr val="cc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94080" y="1279440"/>
              <a:ext cx="660240" cy="6588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50000">
                  <a:srgbClr val="fefefe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54120" y="1233360"/>
              <a:ext cx="34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$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57280" y="1442880"/>
              <a:ext cx="91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L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692440" y="2006640"/>
              <a:ext cx="264960" cy="131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28920" y="2138400"/>
              <a:ext cx="792000" cy="33480"/>
            </a:xfrm>
            <a:prstGeom prst="rect">
              <a:avLst/>
            </a:prstGeom>
            <a:solidFill>
              <a:srgbClr val="cc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708360" y="914400"/>
            <a:ext cx="1008000" cy="1295280"/>
            <a:chOff x="3708360" y="914400"/>
            <a:chExt cx="1008000" cy="1295280"/>
          </a:xfrm>
        </p:grpSpPr>
        <p:sp>
          <p:nvSpPr>
            <p:cNvPr id="133" name=""/>
            <p:cNvSpPr/>
            <p:nvPr/>
          </p:nvSpPr>
          <p:spPr>
            <a:xfrm>
              <a:off x="3708360" y="914400"/>
              <a:ext cx="1008000" cy="12952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11960" y="94608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Resul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80000" y="1379520"/>
              <a:ext cx="576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80000" y="1523880"/>
              <a:ext cx="792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80000" y="1668600"/>
              <a:ext cx="649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80000" y="1811160"/>
              <a:ext cx="792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80000" y="1955880"/>
              <a:ext cx="218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074600" y="2475000"/>
            <a:ext cx="2129040" cy="431640"/>
          </a:xfrm>
          <a:prstGeom prst="downArrowCallout">
            <a:avLst>
              <a:gd name="adj1" fmla="val 64402"/>
              <a:gd name="adj2" fmla="val 60902"/>
              <a:gd name="adj3" fmla="val 35662"/>
              <a:gd name="adj4" fmla="val 36764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030320" y="890640"/>
            <a:ext cx="947880" cy="1370520"/>
            <a:chOff x="1030320" y="890640"/>
            <a:chExt cx="947880" cy="1370520"/>
          </a:xfrm>
        </p:grpSpPr>
        <p:sp>
          <p:nvSpPr>
            <p:cNvPr id="142" name=""/>
            <p:cNvSpPr/>
            <p:nvPr/>
          </p:nvSpPr>
          <p:spPr>
            <a:xfrm>
              <a:off x="1030320" y="1954080"/>
              <a:ext cx="85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.C, .ja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93680" y="917640"/>
              <a:ext cx="863640" cy="12952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42920" y="89064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DRMA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85840" y="1322280"/>
              <a:ext cx="576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85840" y="1467000"/>
              <a:ext cx="576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85840" y="1611360"/>
              <a:ext cx="576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85840" y="1754280"/>
              <a:ext cx="576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42560" y="1849320"/>
              <a:ext cx="80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.C, .ja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641400" y="575460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4097520" y="44870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rid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4277880" y="1390320"/>
            <a:ext cx="13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rot="5400000">
            <a:off x="3561480" y="2460240"/>
            <a:ext cx="792360" cy="1081080"/>
          </a:xfrm>
          <a:custGeom>
            <a:avLst/>
            <a:gdLst>
              <a:gd name="textAreaLeft" fmla="*/ -360 w 792360"/>
              <a:gd name="textAreaRight" fmla="*/ 792360 w 7923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60360" y="3827520"/>
            <a:ext cx="1801800" cy="1584360"/>
          </a:xfrm>
          <a:custGeom>
            <a:avLst/>
            <a:gdLst/>
            <a:ahLst/>
            <a:rect l="l" t="t" r="r" b="b"/>
            <a:pathLst>
              <a:path w="1135" h="998">
                <a:moveTo>
                  <a:pt x="1" y="998"/>
                </a:moveTo>
                <a:cubicBezTo>
                  <a:pt x="1" y="998"/>
                  <a:pt x="568" y="998"/>
                  <a:pt x="1135" y="998"/>
                </a:cubicBezTo>
                <a:cubicBezTo>
                  <a:pt x="1134" y="699"/>
                  <a:pt x="636" y="699"/>
                  <a:pt x="636" y="544"/>
                </a:cubicBezTo>
                <a:cubicBezTo>
                  <a:pt x="636" y="544"/>
                  <a:pt x="636" y="498"/>
                  <a:pt x="636" y="453"/>
                </a:cubicBezTo>
                <a:cubicBezTo>
                  <a:pt x="648" y="291"/>
                  <a:pt x="1134" y="297"/>
                  <a:pt x="1135" y="0"/>
                </a:cubicBezTo>
                <a:cubicBezTo>
                  <a:pt x="568" y="0"/>
                  <a:pt x="1128" y="3"/>
                  <a:pt x="1" y="0"/>
                </a:cubicBezTo>
                <a:cubicBezTo>
                  <a:pt x="0" y="291"/>
                  <a:pt x="498" y="291"/>
                  <a:pt x="500" y="453"/>
                </a:cubicBezTo>
                <a:cubicBezTo>
                  <a:pt x="500" y="498"/>
                  <a:pt x="500" y="544"/>
                  <a:pt x="500" y="544"/>
                </a:cubicBezTo>
                <a:cubicBezTo>
                  <a:pt x="498" y="705"/>
                  <a:pt x="0" y="699"/>
                  <a:pt x="1" y="998"/>
                </a:cubicBez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22600" y="445140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lo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4262040" y="2741400"/>
            <a:ext cx="118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rid Meta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chedu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194440" y="2665440"/>
            <a:ext cx="3889080" cy="912600"/>
            <a:chOff x="5194440" y="2665440"/>
            <a:chExt cx="3889080" cy="912600"/>
          </a:xfrm>
        </p:grpSpPr>
        <p:sp>
          <p:nvSpPr>
            <p:cNvPr id="158" name=""/>
            <p:cNvSpPr/>
            <p:nvPr/>
          </p:nvSpPr>
          <p:spPr>
            <a:xfrm>
              <a:off x="5908680" y="2665440"/>
              <a:ext cx="3174840" cy="912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2425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32425d"/>
                  </a:solidFill>
                  <a:latin typeface="Arial"/>
                </a:rPr>
                <a:t> </a:t>
              </a:r>
              <a:r>
                <a:rPr b="1" lang="en-GB" sz="1600" spc="-1" strike="noStrike">
                  <a:solidFill>
                    <a:srgbClr val="32425d"/>
                  </a:solidFill>
                  <a:latin typeface="Arial"/>
                </a:rPr>
                <a:t>open source meta-schedu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job execution managemen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ource brokeri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94440" y="2901960"/>
              <a:ext cx="647640" cy="43344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9e4ff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194440" y="1197000"/>
            <a:ext cx="3625560" cy="643320"/>
            <a:chOff x="5194440" y="1197000"/>
            <a:chExt cx="3625560" cy="643320"/>
          </a:xfrm>
        </p:grpSpPr>
        <p:sp>
          <p:nvSpPr>
            <p:cNvPr id="161" name=""/>
            <p:cNvSpPr/>
            <p:nvPr/>
          </p:nvSpPr>
          <p:spPr>
            <a:xfrm>
              <a:off x="5908680" y="1197000"/>
              <a:ext cx="2911320" cy="643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tandard API (GGF DRMAA)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 Line Interfac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194440" y="1298520"/>
              <a:ext cx="647640" cy="43344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219640" y="4202280"/>
            <a:ext cx="3313080" cy="912600"/>
            <a:chOff x="5219640" y="4202280"/>
            <a:chExt cx="3313080" cy="912600"/>
          </a:xfrm>
        </p:grpSpPr>
        <p:sp>
          <p:nvSpPr>
            <p:cNvPr id="164" name=""/>
            <p:cNvSpPr/>
            <p:nvPr/>
          </p:nvSpPr>
          <p:spPr>
            <a:xfrm>
              <a:off x="5219640" y="4438800"/>
              <a:ext cx="647640" cy="43308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08680" y="4202280"/>
              <a:ext cx="2624040" cy="912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tandard interfa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Globus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nd-to-end (e.g. TCP/IP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219640" y="5473800"/>
            <a:ext cx="3863880" cy="912600"/>
            <a:chOff x="5219640" y="5473800"/>
            <a:chExt cx="3863880" cy="912600"/>
          </a:xfrm>
        </p:grpSpPr>
        <p:sp>
          <p:nvSpPr>
            <p:cNvPr id="167" name=""/>
            <p:cNvSpPr/>
            <p:nvPr/>
          </p:nvSpPr>
          <p:spPr>
            <a:xfrm>
              <a:off x="5219640" y="5710320"/>
              <a:ext cx="647640" cy="43344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984ff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08680" y="5473800"/>
              <a:ext cx="3174840" cy="912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highly dynam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heterogeneo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high fault r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161040" y="1935000"/>
            <a:ext cx="2352600" cy="611280"/>
            <a:chOff x="6161040" y="1935000"/>
            <a:chExt cx="2352600" cy="611280"/>
          </a:xfrm>
        </p:grpSpPr>
        <p:sp>
          <p:nvSpPr>
            <p:cNvPr id="170" name=""/>
            <p:cNvSpPr/>
            <p:nvPr/>
          </p:nvSpPr>
          <p:spPr>
            <a:xfrm rot="5400000">
              <a:off x="7033320" y="2024640"/>
              <a:ext cx="611280" cy="432000"/>
            </a:xfrm>
            <a:custGeom>
              <a:avLst/>
              <a:gdLst>
                <a:gd name="textAreaLeft" fmla="*/ 0 w 611280"/>
                <a:gd name="textAreaRight" fmla="*/ 611640 w 61128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9e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61040" y="2071800"/>
              <a:ext cx="23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Grid Scheduling Ste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08080" y="1349280"/>
            <a:ext cx="618840" cy="4795920"/>
            <a:chOff x="208080" y="1349280"/>
            <a:chExt cx="618840" cy="4795920"/>
          </a:xfrm>
        </p:grpSpPr>
        <p:sp>
          <p:nvSpPr>
            <p:cNvPr id="173" name=""/>
            <p:cNvSpPr/>
            <p:nvPr/>
          </p:nvSpPr>
          <p:spPr>
            <a:xfrm>
              <a:off x="463680" y="5641920"/>
              <a:ext cx="358560" cy="503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324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8360" y="1349280"/>
              <a:ext cx="358560" cy="503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324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0800000">
              <a:off x="208080" y="1486080"/>
              <a:ext cx="287280" cy="4536720"/>
            </a:xfrm>
            <a:prstGeom prst="rect">
              <a:avLst/>
            </a:prstGeom>
            <a:solidFill>
              <a:srgbClr val="324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lication-Infrastructure decoup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 flipV="1">
            <a:off x="8820000" y="3211200"/>
            <a:ext cx="1800" cy="2739960"/>
          </a:xfrm>
          <a:prstGeom prst="line">
            <a:avLst/>
          </a:prstGeom>
          <a:ln w="28440">
            <a:solidFill>
              <a:srgbClr val="32425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87280" y="814320"/>
            <a:ext cx="8713800" cy="5567400"/>
          </a:xfrm>
          <a:prstGeom prst="roundRect">
            <a:avLst>
              <a:gd name="adj" fmla="val 19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4920" y="45720"/>
            <a:ext cx="8137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1280" indent="0"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. GridWay 5.0 Features and Benefi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8000" y="590400"/>
            <a:ext cx="295272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425d"/>
              </a:gs>
              <a:gs pos="50000">
                <a:srgbClr val="fefefe"/>
              </a:gs>
              <a:gs pos="100000">
                <a:srgbClr val="32425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2425d"/>
                </a:solidFill>
                <a:latin typeface="Arial"/>
              </a:rPr>
              <a:t>Scheduling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1052640"/>
            <a:ext cx="8713800" cy="52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Advanced scheduling capa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 algn="just">
              <a:lnSpc>
                <a:spcPct val="120000"/>
              </a:lnSpc>
              <a:buClr>
                <a:srgbClr val="32425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  <a:ea typeface="Arial"/>
              </a:rPr>
              <a:t>Adaptive Scheduling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, to periodically adapt the schedule considerin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pplications dema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ynamic characteristics of Grid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 algn="just">
              <a:lnSpc>
                <a:spcPct val="120000"/>
              </a:lnSpc>
              <a:buClr>
                <a:srgbClr val="32425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  <a:ea typeface="Arial"/>
              </a:rPr>
              <a:t>Adaptive Execut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, to migrate running application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vailability, capacity and cost of Grid resour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New requirements or preferenc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561"/>
              </a:spcBef>
              <a:buClr>
                <a:srgbClr val="32425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Different Application Pro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 algn="just">
              <a:lnSpc>
                <a:spcPct val="120000"/>
              </a:lnSpc>
              <a:buClr>
                <a:srgbClr val="32425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  <a:ea typeface="Arial"/>
              </a:rPr>
              <a:t>Array job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 (HTC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 algn="just">
              <a:lnSpc>
                <a:spcPct val="120000"/>
              </a:lnSpc>
              <a:buClr>
                <a:srgbClr val="32425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  <a:ea typeface="Arial"/>
              </a:rPr>
              <a:t>Job dependencie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(abstract workflows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561"/>
              </a:spcBef>
              <a:buClr>
                <a:srgbClr val="0033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Fault detection &amp; Recovery capa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etect and recover from the 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  <a:ea typeface="Arial"/>
              </a:rPr>
              <a:t>remote failure situation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Recover from 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  <a:ea typeface="Arial"/>
              </a:rPr>
              <a:t>local failure</a:t>
            </a:r>
            <a:r>
              <a:rPr b="1" lang="en-GB" sz="1600" spc="-1" strike="noStrike">
                <a:solidFill>
                  <a:srgbClr val="003366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buClr>
                <a:srgbClr val="0033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Modular Scheduler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cheduling 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  <a:ea typeface="Arial"/>
              </a:rPr>
              <a:t>polici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, to allow prioritization of jobs and us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20000"/>
              </a:lnSpc>
              <a:spcBef>
                <a:spcPts val="300"/>
              </a:spcBef>
              <a:buClr>
                <a:srgbClr val="32425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  <a:ea typeface="Arial"/>
              </a:rPr>
              <a:t>Reporting &amp; accounting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facilities provide detailed statistics of usage on the gri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87280" y="811080"/>
            <a:ext cx="8713800" cy="3409920"/>
          </a:xfrm>
          <a:prstGeom prst="roundRect">
            <a:avLst>
              <a:gd name="adj" fmla="val 19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920" y="45720"/>
            <a:ext cx="8137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1280" indent="0"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. GridWay 5.0 Features and Benefi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590400"/>
            <a:ext cx="343872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425d"/>
              </a:gs>
              <a:gs pos="50000">
                <a:srgbClr val="fefefe"/>
              </a:gs>
              <a:gs pos="100000">
                <a:srgbClr val="32425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2425d"/>
                </a:solidFill>
                <a:latin typeface="Arial"/>
              </a:rPr>
              <a:t>User Interface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052640"/>
            <a:ext cx="8713800" cy="29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20000"/>
              </a:lnSpc>
              <a:buClr>
                <a:srgbClr val="003366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5156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Application compati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 algn="just">
              <a:lnSpc>
                <a:spcPct val="120000"/>
              </a:lnSpc>
              <a:buClr>
                <a:srgbClr val="32425d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51560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  <a:ea typeface="Arial"/>
              </a:rPr>
              <a:t>Not bounded to a specific class of application</a:t>
            </a:r>
            <a:r>
              <a:rPr b="1" lang="en-GB" sz="1600" spc="-1" strike="noStrike">
                <a:solidFill>
                  <a:srgbClr val="6969ff"/>
                </a:solidFill>
                <a:latin typeface="Arial"/>
                <a:ea typeface="Arial"/>
              </a:rPr>
              <a:t>,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generated by a given programming environ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 algn="just">
              <a:lnSpc>
                <a:spcPct val="120000"/>
              </a:lnSpc>
              <a:buClr>
                <a:srgbClr val="32425d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51560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  <a:ea typeface="Arial"/>
              </a:rPr>
              <a:t>Not require specific application deployment</a:t>
            </a:r>
            <a:r>
              <a:rPr b="1" lang="en-GB" sz="1600" spc="-1" strike="noStrike">
                <a:solidFill>
                  <a:srgbClr val="6969ff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n remote h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5156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DRM-like Command Line Interface</a:t>
            </a: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LI similar to that found on Unix and DRM systems such as PBS or S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5156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Standard Applications API (DRMAA)</a:t>
            </a: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of ISV’s applications to 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Compatibility with DRM systems that implements the standard, such as SGE, Torque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87280" y="830160"/>
            <a:ext cx="8713800" cy="5424480"/>
          </a:xfrm>
          <a:prstGeom prst="roundRect">
            <a:avLst>
              <a:gd name="adj" fmla="val 19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4920" y="45720"/>
            <a:ext cx="8137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1280" indent="0"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. GridWay 5.0 Features and Benefi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4360" y="590400"/>
            <a:ext cx="293544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425d"/>
              </a:gs>
              <a:gs pos="50000">
                <a:srgbClr val="fefefe"/>
              </a:gs>
              <a:gs pos="100000">
                <a:srgbClr val="32425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2425d"/>
                </a:solidFill>
                <a:latin typeface="Arial"/>
              </a:rPr>
              <a:t>Deployment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0920" y="1052640"/>
            <a:ext cx="87138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20000"/>
              </a:lnSpc>
              <a:buClr>
                <a:srgbClr val="32425d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Support for multiple-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Globus installation is not required in each end-user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Firewall require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 administrators have full control of meta-schedul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20000"/>
              </a:lnSpc>
              <a:buClr>
                <a:srgbClr val="32425d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Interoperability</a:t>
            </a: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multaneously interface to distinct middleware (Globus WS, pre-WS, LCG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20000"/>
              </a:lnSpc>
              <a:spcBef>
                <a:spcPts val="561"/>
              </a:spcBef>
              <a:buClr>
                <a:srgbClr val="32425d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Flexible and extensible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 algn="just">
              <a:lnSpc>
                <a:spcPct val="120000"/>
              </a:lnSpc>
              <a:spcBef>
                <a:spcPts val="499"/>
              </a:spcBef>
              <a:buClr>
                <a:srgbClr val="32425d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51560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  <a:ea typeface="Arial"/>
              </a:rPr>
              <a:t>Information driver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: MDS2 (MDS schema), MDS2 (Glue schema) and MDS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 algn="just">
              <a:lnSpc>
                <a:spcPct val="120000"/>
              </a:lnSpc>
              <a:spcBef>
                <a:spcPts val="499"/>
              </a:spcBef>
              <a:buClr>
                <a:srgbClr val="32425d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51560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  <a:ea typeface="Arial"/>
              </a:rPr>
              <a:t>Execution driver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: pre-WS GRAM and WS 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 algn="just">
              <a:lnSpc>
                <a:spcPct val="120000"/>
              </a:lnSpc>
              <a:spcBef>
                <a:spcPts val="499"/>
              </a:spcBef>
              <a:buClr>
                <a:srgbClr val="32425d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51560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  <a:ea typeface="Arial"/>
              </a:rPr>
              <a:t>Transfer driver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: GridFTP and R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20000"/>
              </a:lnSpc>
              <a:spcBef>
                <a:spcPts val="499"/>
              </a:spcBef>
              <a:buClr>
                <a:srgbClr val="32425d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Deployment Strategies</a:t>
            </a: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oes not require the installation or deployment of new servi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ingle us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nterprise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Partner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Utility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4920" y="45720"/>
            <a:ext cx="8137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1280" indent="0"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. GridWay 5.0 Scheduling Architect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65480" y="616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-37080" y="620640"/>
            <a:ext cx="6171120" cy="3754080"/>
            <a:chOff x="-37080" y="620640"/>
            <a:chExt cx="6171120" cy="3754080"/>
          </a:xfrm>
        </p:grpSpPr>
        <p:sp>
          <p:nvSpPr>
            <p:cNvPr id="192" name=""/>
            <p:cNvSpPr/>
            <p:nvPr/>
          </p:nvSpPr>
          <p:spPr>
            <a:xfrm>
              <a:off x="1290600" y="1214280"/>
              <a:ext cx="4843440" cy="3133800"/>
            </a:xfrm>
            <a:custGeom>
              <a:avLst/>
              <a:gdLst/>
              <a:ahLst/>
              <a:rect l="l" t="t" r="r" b="b"/>
              <a:pathLst>
                <a:path w="3051" h="1974">
                  <a:moveTo>
                    <a:pt x="0" y="0"/>
                  </a:moveTo>
                  <a:lnTo>
                    <a:pt x="5" y="1974"/>
                  </a:lnTo>
                  <a:lnTo>
                    <a:pt x="3049" y="1969"/>
                  </a:lnTo>
                  <a:lnTo>
                    <a:pt x="3051" y="1139"/>
                  </a:lnTo>
                  <a:lnTo>
                    <a:pt x="2160" y="1141"/>
                  </a:lnTo>
                  <a:lnTo>
                    <a:pt x="215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ff">
                <a:alpha val="51000"/>
              </a:srgbClr>
            </a:solid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72120" y="3664080"/>
              <a:ext cx="1211040" cy="643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60400" y="3659040"/>
              <a:ext cx="1077120" cy="643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Trans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41200" y="3174840"/>
              <a:ext cx="1355760" cy="643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434040" y="2398680"/>
              <a:ext cx="1098360" cy="643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Dispa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443040" y="1438200"/>
              <a:ext cx="1077120" cy="643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2405160" y="2471760"/>
              <a:ext cx="576000" cy="576360"/>
              <a:chOff x="2405160" y="2471760"/>
              <a:chExt cx="576000" cy="576360"/>
            </a:xfrm>
          </p:grpSpPr>
          <p:sp>
            <p:nvSpPr>
              <p:cNvPr id="199" name=""/>
              <p:cNvSpPr/>
              <p:nvPr/>
            </p:nvSpPr>
            <p:spPr>
              <a:xfrm>
                <a:off x="2405160" y="247176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405160" y="254484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05160" y="261612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405160" y="268920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405160" y="275760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405160" y="2830680"/>
                <a:ext cx="576000" cy="72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405160" y="290196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405160" y="297504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1424160" y="2471760"/>
              <a:ext cx="576000" cy="576360"/>
              <a:chOff x="1424160" y="2471760"/>
              <a:chExt cx="576000" cy="576360"/>
            </a:xfrm>
          </p:grpSpPr>
          <p:sp>
            <p:nvSpPr>
              <p:cNvPr id="208" name=""/>
              <p:cNvSpPr/>
              <p:nvPr/>
            </p:nvSpPr>
            <p:spPr>
              <a:xfrm>
                <a:off x="1424160" y="247176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424160" y="254484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424160" y="261612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424160" y="268920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424160" y="275760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424160" y="2830680"/>
                <a:ext cx="576000" cy="72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424160" y="290196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424160" y="297504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4926240" y="2530440"/>
              <a:ext cx="1196640" cy="3733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7" name=""/>
            <p:cNvCxnSpPr>
              <a:stCxn id="196" idx="2"/>
              <a:endCxn id="193" idx="0"/>
            </p:cNvCxnSpPr>
            <p:nvPr/>
          </p:nvCxnSpPr>
          <p:spPr>
            <a:xfrm flipH="1">
              <a:off x="3976200" y="3041280"/>
              <a:ext cx="5760" cy="62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8" name=""/>
            <p:cNvCxnSpPr>
              <a:stCxn id="195" idx="1"/>
              <a:endCxn id="194" idx="0"/>
            </p:cNvCxnSpPr>
            <p:nvPr/>
          </p:nvCxnSpPr>
          <p:spPr>
            <a:xfrm flipV="1" rot="10800000">
              <a:off x="2297880" y="3495240"/>
              <a:ext cx="2445480" cy="164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9" name=""/>
            <p:cNvCxnSpPr>
              <a:stCxn id="196" idx="3"/>
              <a:endCxn id="216" idx="1"/>
            </p:cNvCxnSpPr>
            <p:nvPr/>
          </p:nvCxnSpPr>
          <p:spPr>
            <a:xfrm flipV="1">
              <a:off x="4528800" y="2715480"/>
              <a:ext cx="39924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0" name=""/>
            <p:cNvCxnSpPr>
              <a:stCxn id="197" idx="2"/>
              <a:endCxn id="196" idx="0"/>
            </p:cNvCxnSpPr>
            <p:nvPr/>
          </p:nvCxnSpPr>
          <p:spPr>
            <a:xfrm>
              <a:off x="3981600" y="2081160"/>
              <a:ext cx="2160" cy="31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21" name=""/>
            <p:cNvSpPr/>
            <p:nvPr/>
          </p:nvSpPr>
          <p:spPr>
            <a:xfrm>
              <a:off x="1270440" y="1947960"/>
              <a:ext cx="88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Job P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15800" y="1947960"/>
              <a:ext cx="95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Host P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69520" y="620640"/>
              <a:ext cx="1647720" cy="3733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DRMAA libr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09440" y="620640"/>
              <a:ext cx="542880" cy="3733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L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5" name=""/>
            <p:cNvCxnSpPr>
              <a:stCxn id="223" idx="2"/>
              <a:endCxn id="197" idx="0"/>
            </p:cNvCxnSpPr>
            <p:nvPr/>
          </p:nvCxnSpPr>
          <p:spPr>
            <a:xfrm>
              <a:off x="2293920" y="993240"/>
              <a:ext cx="1689840" cy="445320"/>
            </a:xfrm>
            <a:prstGeom prst="bentConnector3">
              <a:avLst>
                <a:gd name="adj1" fmla="val 49989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6" name=""/>
            <p:cNvCxnSpPr>
              <a:stCxn id="224" idx="2"/>
              <a:endCxn id="197" idx="0"/>
            </p:cNvCxnSpPr>
            <p:nvPr/>
          </p:nvCxnSpPr>
          <p:spPr>
            <a:xfrm>
              <a:off x="3979440" y="957240"/>
              <a:ext cx="2520" cy="481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27" name=""/>
            <p:cNvSpPr/>
            <p:nvPr/>
          </p:nvSpPr>
          <p:spPr>
            <a:xfrm>
              <a:off x="1373760" y="1393920"/>
              <a:ext cx="153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GridWay C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2160" y="4343400"/>
              <a:ext cx="60246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-37080" y="3794040"/>
              <a:ext cx="1402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Arial Narrow"/>
                </a:rPr>
                <a:t>GridWa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Arial Narrow"/>
                </a:rPr>
                <a:t>admin. accou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119880" y="3054240"/>
            <a:ext cx="8934120" cy="3332160"/>
            <a:chOff x="119880" y="3054240"/>
            <a:chExt cx="8934120" cy="3332160"/>
          </a:xfrm>
        </p:grpSpPr>
        <p:sp>
          <p:nvSpPr>
            <p:cNvPr id="231" name=""/>
            <p:cNvSpPr/>
            <p:nvPr/>
          </p:nvSpPr>
          <p:spPr>
            <a:xfrm>
              <a:off x="1523520" y="5473800"/>
              <a:ext cx="1485360" cy="91260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Gr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File Trans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351240" y="5473800"/>
              <a:ext cx="1236960" cy="91260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Gr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20800" y="4379760"/>
              <a:ext cx="522360" cy="433440"/>
            </a:xfrm>
            <a:prstGeom prst="rect">
              <a:avLst/>
            </a:prstGeom>
            <a:solidFill>
              <a:srgbClr val="0056a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 Narrow"/>
                </a:rPr>
                <a:t>GridFT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306520" y="4379760"/>
              <a:ext cx="522360" cy="433440"/>
            </a:xfrm>
            <a:prstGeom prst="rect">
              <a:avLst/>
            </a:prstGeom>
            <a:solidFill>
              <a:srgbClr val="0056a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 Narrow"/>
                </a:rPr>
                <a:t>R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433680" y="4379760"/>
              <a:ext cx="522360" cy="433440"/>
            </a:xfrm>
            <a:prstGeom prst="rect">
              <a:avLst/>
            </a:prstGeom>
            <a:solidFill>
              <a:srgbClr val="0056a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 Narrow"/>
                </a:rPr>
                <a:t>pre-W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 Narrow"/>
                </a:rPr>
                <a:t>G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21200" y="4379760"/>
              <a:ext cx="522360" cy="433440"/>
            </a:xfrm>
            <a:prstGeom prst="rect">
              <a:avLst/>
            </a:prstGeom>
            <a:solidFill>
              <a:srgbClr val="0056a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 Narrow"/>
                </a:rPr>
                <a:t>W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 Narrow"/>
                </a:rPr>
                <a:t>G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61040" y="3198960"/>
              <a:ext cx="1079640" cy="198360"/>
            </a:xfrm>
            <a:prstGeom prst="rect">
              <a:avLst/>
            </a:prstGeom>
            <a:solidFill>
              <a:srgbClr val="0056a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 Narrow"/>
                </a:rPr>
                <a:t>MDS2 (Globus)</a:t>
              </a:r>
              <a:r>
                <a:rPr b="1" lang="en-GB" sz="1200" spc="-1" strike="noStrike">
                  <a:solidFill>
                    <a:srgbClr val="ffffff"/>
                  </a:solidFill>
                  <a:latin typeface="Arial Narrow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61040" y="3414600"/>
              <a:ext cx="1079640" cy="198720"/>
            </a:xfrm>
            <a:prstGeom prst="rect">
              <a:avLst/>
            </a:prstGeom>
            <a:solidFill>
              <a:srgbClr val="0056a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 Narrow"/>
                </a:rPr>
                <a:t>MDS2 (GLUE)</a:t>
              </a:r>
              <a:r>
                <a:rPr b="1" lang="en-GB" sz="1200" spc="-1" strike="noStrike">
                  <a:solidFill>
                    <a:srgbClr val="ffffff"/>
                  </a:solidFill>
                  <a:latin typeface="Arial Narrow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161040" y="3629160"/>
              <a:ext cx="1079640" cy="198360"/>
            </a:xfrm>
            <a:prstGeom prst="rect">
              <a:avLst/>
            </a:prstGeom>
            <a:solidFill>
              <a:srgbClr val="0056a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 Narrow"/>
                </a:rPr>
                <a:t>MDS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53760" y="4346640"/>
              <a:ext cx="233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56ac"/>
                  </a:solidFill>
                  <a:latin typeface="Arial Narrow"/>
                </a:rPr>
                <a:t>Middleware Access Driv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9880" y="4365720"/>
              <a:ext cx="108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Arial Narrow"/>
                </a:rPr>
                <a:t>User Sp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72320" y="3054240"/>
              <a:ext cx="1381680" cy="91260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Gr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64440" y="3330720"/>
              <a:ext cx="360360" cy="36036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56ac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5400000">
              <a:off x="3674520" y="4962600"/>
              <a:ext cx="576360" cy="36036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56ac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5400000">
              <a:off x="1990440" y="4962600"/>
              <a:ext cx="576360" cy="36036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56ac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440320" y="1700280"/>
            <a:ext cx="2303640" cy="649080"/>
          </a:xfrm>
          <a:prstGeom prst="wedgeRectCallout">
            <a:avLst>
              <a:gd name="adj1" fmla="val -49037"/>
              <a:gd name="adj2" fmla="val 1739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2300" dir="83643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source Disco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source Monito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0920" y="5013360"/>
            <a:ext cx="1657080" cy="863640"/>
          </a:xfrm>
          <a:prstGeom prst="wedgeRectCallout">
            <a:avLst>
              <a:gd name="adj1" fmla="val 53351"/>
              <a:gd name="adj2" fmla="val -1327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2300" dir="83643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ob Prep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ob Term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Job Mi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00720" y="4797360"/>
            <a:ext cx="1657080" cy="1152720"/>
          </a:xfrm>
          <a:prstGeom prst="wedgeRectCallout">
            <a:avLst>
              <a:gd name="adj1" fmla="val -52106"/>
              <a:gd name="adj2" fmla="val -93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ob Sub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ob Monito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ob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Job Mi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21440" y="1600200"/>
            <a:ext cx="2303280" cy="431640"/>
          </a:xfrm>
          <a:prstGeom prst="wedgeRectCallout">
            <a:avLst>
              <a:gd name="adj1" fmla="val -38078"/>
              <a:gd name="adj2" fmla="val 156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source Se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 fill="hold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5" dur="500" fill="hold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 fill="hold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5" dur="500" fill="hold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 fill="hold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5" dur="500" fill="hold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 fill="hold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dur="indefinite" fill="hold">
                      <p:stCondLst>
                        <p:cond delay="indefinite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5" dur="500" fill="hold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36520" y="790560"/>
            <a:ext cx="8728200" cy="3576600"/>
          </a:xfrm>
          <a:prstGeom prst="roundRect">
            <a:avLst>
              <a:gd name="adj" fmla="val 44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4920" y="45720"/>
            <a:ext cx="8137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1280" indent="0"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. Scheduling Infrastructures with GridWay 5.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" y="561960"/>
            <a:ext cx="364824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95c75"/>
              </a:gs>
              <a:gs pos="50000">
                <a:srgbClr val="fefefe"/>
              </a:gs>
              <a:gs pos="100000">
                <a:srgbClr val="395c7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Enterprise Grid De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3920" y="1042920"/>
            <a:ext cx="8141040" cy="33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0280" indent="-2602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Infra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682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n-interoperable independent platforms, managed by different D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682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uld be geographically distribu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0280" indent="-2602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682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tegration of different and independent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682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ecoupling of Applications and local D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682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mprove return from IT inves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0280" indent="-2602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Bene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682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st minim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682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erformance/utilization maxim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2600" y="4721400"/>
            <a:ext cx="8728200" cy="1761840"/>
          </a:xfrm>
          <a:prstGeom prst="roundRect">
            <a:avLst>
              <a:gd name="adj" fmla="val 44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9280" y="4492800"/>
            <a:ext cx="396108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95c75"/>
              </a:gs>
              <a:gs pos="50000">
                <a:srgbClr val="fefefe"/>
              </a:gs>
              <a:gs pos="100000">
                <a:srgbClr val="395c7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Scheduling in Enterprise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0360" y="5103720"/>
            <a:ext cx="714312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0280" indent="-2602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Centralized Scheduling (organization-level meta-scheduler)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682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force enterprise usage poli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682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multiple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682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260280"/>
                <a:tab algn="l" pos="1174680"/>
                <a:tab algn="l" pos="2089080"/>
                <a:tab algn="l" pos="3003480"/>
                <a:tab algn="l" pos="3917880"/>
                <a:tab algn="l" pos="4832280"/>
                <a:tab algn="l" pos="5746680"/>
                <a:tab algn="l" pos="6661080"/>
                <a:tab algn="l" pos="7575480"/>
                <a:tab algn="l" pos="8489880"/>
                <a:tab algn="l" pos="9404280"/>
                <a:tab algn="l" pos="1031868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entralized accoun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36520" y="860400"/>
            <a:ext cx="8728200" cy="5305320"/>
          </a:xfrm>
          <a:prstGeom prst="roundRect">
            <a:avLst>
              <a:gd name="adj" fmla="val 44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67080"/>
            <a:ext cx="6193080" cy="1368360"/>
          </a:xfrm>
          <a:prstGeom prst="roundRect">
            <a:avLst>
              <a:gd name="adj" fmla="val 16667"/>
            </a:avLst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4920" y="45720"/>
            <a:ext cx="8137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1280" indent="0"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. Scheduling Infrastructures with GridWay 5.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065480" y="616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3200" y="631800"/>
            <a:ext cx="364824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95c75"/>
              </a:gs>
              <a:gs pos="50000">
                <a:srgbClr val="fefefe"/>
              </a:gs>
              <a:gs pos="100000">
                <a:srgbClr val="395c7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Enterprise Grid De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784840" y="5280120"/>
            <a:ext cx="768240" cy="14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/>
          <p:nvPr/>
        </p:nvCxnSpPr>
        <p:spPr>
          <a:xfrm>
            <a:off x="2708280" y="4193640"/>
            <a:ext cx="1769040" cy="707400"/>
          </a:xfrm>
          <a:prstGeom prst="bentConnector3">
            <a:avLst>
              <a:gd name="adj1" fmla="val 49989"/>
            </a:avLst>
          </a:prstGeom>
          <a:ln w="7632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264" name=""/>
          <p:cNvCxnSpPr/>
          <p:nvPr/>
        </p:nvCxnSpPr>
        <p:spPr>
          <a:xfrm>
            <a:off x="2784600" y="4184280"/>
            <a:ext cx="4077360" cy="741960"/>
          </a:xfrm>
          <a:prstGeom prst="bentConnector3">
            <a:avLst>
              <a:gd name="adj1" fmla="val 49995"/>
            </a:avLst>
          </a:prstGeom>
          <a:ln w="76320">
            <a:solidFill>
              <a:srgbClr val="eaeaea"/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 flipV="1">
            <a:off x="2708280" y="3566880"/>
            <a:ext cx="1440" cy="61884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/>
          <p:nvPr/>
        </p:nvCxnSpPr>
        <p:spPr>
          <a:xfrm>
            <a:off x="3244320" y="4321080"/>
            <a:ext cx="2520" cy="558000"/>
          </a:xfrm>
          <a:prstGeom prst="bentConnector3">
            <a:avLst>
              <a:gd name="adj1" fmla="val 50000"/>
            </a:avLst>
          </a:prstGeom>
          <a:ln w="7632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267" name=""/>
          <p:cNvCxnSpPr/>
          <p:nvPr/>
        </p:nvCxnSpPr>
        <p:spPr>
          <a:xfrm>
            <a:off x="3320640" y="4341960"/>
            <a:ext cx="1693080" cy="581400"/>
          </a:xfrm>
          <a:prstGeom prst="bentConnector3">
            <a:avLst>
              <a:gd name="adj1" fmla="val 50000"/>
            </a:avLst>
          </a:prstGeom>
          <a:ln w="7632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268" name=""/>
          <p:cNvCxnSpPr/>
          <p:nvPr/>
        </p:nvCxnSpPr>
        <p:spPr>
          <a:xfrm>
            <a:off x="3220560" y="4341600"/>
            <a:ext cx="4179240" cy="594360"/>
          </a:xfrm>
          <a:prstGeom prst="bentConnector3">
            <a:avLst>
              <a:gd name="adj1" fmla="val 50000"/>
            </a:avLst>
          </a:prstGeom>
          <a:ln w="7632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269" name=""/>
          <p:cNvSpPr/>
          <p:nvPr/>
        </p:nvSpPr>
        <p:spPr>
          <a:xfrm flipV="1">
            <a:off x="3552840" y="3566880"/>
            <a:ext cx="1440" cy="755640"/>
          </a:xfrm>
          <a:prstGeom prst="line">
            <a:avLst/>
          </a:prstGeom>
          <a:ln w="7632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"/>
          <p:cNvCxnSpPr/>
          <p:nvPr/>
        </p:nvCxnSpPr>
        <p:spPr>
          <a:xfrm flipV="1" rot="10800000">
            <a:off x="3707640" y="4047840"/>
            <a:ext cx="1229400" cy="830880"/>
          </a:xfrm>
          <a:prstGeom prst="bentConnector3">
            <a:avLst>
              <a:gd name="adj1" fmla="val 50000"/>
            </a:avLst>
          </a:prstGeom>
          <a:ln w="7632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271" name=""/>
          <p:cNvCxnSpPr/>
          <p:nvPr/>
        </p:nvCxnSpPr>
        <p:spPr>
          <a:xfrm>
            <a:off x="4092480" y="4048200"/>
            <a:ext cx="1385280" cy="853200"/>
          </a:xfrm>
          <a:prstGeom prst="bentConnector3">
            <a:avLst>
              <a:gd name="adj1" fmla="val 49987"/>
            </a:avLst>
          </a:prstGeom>
          <a:ln w="7632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272" name=""/>
          <p:cNvCxnSpPr/>
          <p:nvPr/>
        </p:nvCxnSpPr>
        <p:spPr>
          <a:xfrm>
            <a:off x="3860280" y="4048200"/>
            <a:ext cx="4001400" cy="878400"/>
          </a:xfrm>
          <a:prstGeom prst="bentConnector3">
            <a:avLst>
              <a:gd name="adj1" fmla="val 50000"/>
            </a:avLst>
          </a:prstGeom>
          <a:ln w="7632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273" name=""/>
          <p:cNvSpPr/>
          <p:nvPr/>
        </p:nvSpPr>
        <p:spPr>
          <a:xfrm flipV="1">
            <a:off x="4511520" y="3567240"/>
            <a:ext cx="1800" cy="48888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51920" y="5756400"/>
            <a:ext cx="488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GLOBUS ENTERPRISE GRID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158160" y="2747880"/>
            <a:ext cx="2084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TE-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ETA-SCHEDU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400480" y="5425920"/>
            <a:ext cx="1536480" cy="206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RESOURC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400480" y="5178600"/>
            <a:ext cx="1536480" cy="2062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SGE Clu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81160" y="4929120"/>
            <a:ext cx="460440" cy="2062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R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76520" y="4929120"/>
            <a:ext cx="460440" cy="2062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M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409840" y="4929120"/>
            <a:ext cx="538200" cy="2062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08280" y="4156200"/>
            <a:ext cx="1440" cy="7128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68800" y="5435640"/>
            <a:ext cx="1536840" cy="204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RESOURC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68800" y="5187960"/>
            <a:ext cx="1536840" cy="2030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PBS Clu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49840" y="4938840"/>
            <a:ext cx="461880" cy="2048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R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45200" y="4938840"/>
            <a:ext cx="460440" cy="20484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M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178160" y="4938840"/>
            <a:ext cx="538200" cy="2048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564240" y="5435640"/>
            <a:ext cx="1536840" cy="204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RESOURCE </a:t>
            </a:r>
            <a:r>
              <a:rPr b="1" i="1" lang="en-GB" sz="1400" spc="-1" strike="noStrike">
                <a:solidFill>
                  <a:srgbClr val="000000"/>
                </a:solidFill>
                <a:latin typeface="Arial Narrow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564240" y="5187960"/>
            <a:ext cx="1536840" cy="2030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LSF Clu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45280" y="4938840"/>
            <a:ext cx="460440" cy="2048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R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40640" y="4938840"/>
            <a:ext cx="460440" cy="20484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M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572160" y="4938840"/>
            <a:ext cx="538200" cy="2048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06880" y="3156120"/>
            <a:ext cx="768240" cy="4125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Trans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Dr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13280" y="3156120"/>
            <a:ext cx="923760" cy="4125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Dr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975200" y="3156120"/>
            <a:ext cx="885960" cy="412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Schedu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09840" y="2847960"/>
            <a:ext cx="3451320" cy="2761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ridWay dae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092560" y="2133720"/>
            <a:ext cx="768600" cy="2746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USER </a:t>
            </a:r>
            <a:r>
              <a:rPr b="1" i="1" lang="en-GB" sz="1400" spc="-1" strike="noStrike">
                <a:solidFill>
                  <a:srgbClr val="000000"/>
                </a:solidFill>
                <a:latin typeface="Arial Narrow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084560" y="2300400"/>
            <a:ext cx="928800" cy="14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76720" y="2540160"/>
            <a:ext cx="762120" cy="276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CLI &amp; A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2400480" y="2540160"/>
            <a:ext cx="1625400" cy="279360"/>
            <a:chOff x="2400480" y="2540160"/>
            <a:chExt cx="1625400" cy="279360"/>
          </a:xfrm>
        </p:grpSpPr>
        <p:sp>
          <p:nvSpPr>
            <p:cNvPr id="300" name=""/>
            <p:cNvSpPr/>
            <p:nvPr/>
          </p:nvSpPr>
          <p:spPr>
            <a:xfrm>
              <a:off x="2400480" y="2540160"/>
              <a:ext cx="763560" cy="2761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CLI &amp; AP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263760" y="2544840"/>
              <a:ext cx="762120" cy="2746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CLI &amp; AP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2400480" y="2133720"/>
            <a:ext cx="1631880" cy="277560"/>
            <a:chOff x="2400480" y="2133720"/>
            <a:chExt cx="1631880" cy="277560"/>
          </a:xfrm>
        </p:grpSpPr>
        <p:sp>
          <p:nvSpPr>
            <p:cNvPr id="303" name=""/>
            <p:cNvSpPr/>
            <p:nvPr/>
          </p:nvSpPr>
          <p:spPr>
            <a:xfrm>
              <a:off x="2400480" y="2133720"/>
              <a:ext cx="768240" cy="2746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USER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263760" y="2138400"/>
              <a:ext cx="768600" cy="2728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USER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2532240" y="1066680"/>
            <a:ext cx="5339880" cy="1200240"/>
            <a:chOff x="2532240" y="1066680"/>
            <a:chExt cx="5339880" cy="1200240"/>
          </a:xfrm>
        </p:grpSpPr>
        <p:pic>
          <p:nvPicPr>
            <p:cNvPr id="306" name="" descr=""/>
            <p:cNvPicPr/>
            <p:nvPr/>
          </p:nvPicPr>
          <p:blipFill>
            <a:blip r:embed="rId1"/>
            <a:stretch/>
          </p:blipFill>
          <p:spPr>
            <a:xfrm>
              <a:off x="3262320" y="1665360"/>
              <a:ext cx="7747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" descr=""/>
            <p:cNvPicPr/>
            <p:nvPr/>
          </p:nvPicPr>
          <p:blipFill>
            <a:blip r:embed="rId2"/>
            <a:stretch/>
          </p:blipFill>
          <p:spPr>
            <a:xfrm>
              <a:off x="2532240" y="1665360"/>
              <a:ext cx="59976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 flipH="1">
              <a:off x="4081320" y="1341360"/>
              <a:ext cx="1355760" cy="49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428080" y="1066680"/>
              <a:ext cx="2444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ISVs APPLICATIO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WITH DRMAA PLUGI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241560" y="1279440"/>
            <a:ext cx="3438360" cy="1474560"/>
            <a:chOff x="241560" y="1279440"/>
            <a:chExt cx="3438360" cy="1474560"/>
          </a:xfrm>
        </p:grpSpPr>
        <p:sp>
          <p:nvSpPr>
            <p:cNvPr id="311" name=""/>
            <p:cNvSpPr/>
            <p:nvPr/>
          </p:nvSpPr>
          <p:spPr>
            <a:xfrm>
              <a:off x="2989440" y="2271600"/>
              <a:ext cx="514080" cy="180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41560" y="1279440"/>
              <a:ext cx="2094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CLIENT HO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(DO NOT REQUI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GRIDWAY OR GLOBUS)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2763720" y="1966680"/>
              <a:ext cx="1800" cy="78732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678120" y="1966680"/>
              <a:ext cx="1800" cy="78732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2411280" y="3154320"/>
            <a:ext cx="768600" cy="4129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Exec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Dr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 -6 5.55112 -17 L 3.88889 -6 -0.12523">
                                      <p:cBhvr>
                                        <p:cTn id="97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 fill="hold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6" dur="500" fill="hold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 -6 -0.00023 L 1.11111 -6 -0.13218">
                                      <p:cBhvr>
                                        <p:cTn id="111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 fill="hold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